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00" y="745920"/>
            <a:ext cx="662292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A1A1-0C34-4576-B93D-F7DF294544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DA34-1AD9-492F-969B-8BFC96FA15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E5E9-9020-434B-A111-55C2EE945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270000" y="801720"/>
            <a:ext cx="7139160" cy="4016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F90C-EB23-4B3E-A04C-BFE35DE033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86A8-EB18-40C1-B20C-BF717EE504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134-EF66-483B-A4E4-5DEDB4A54E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6B60-ADF1-46C5-892B-FA0465EB2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8359-12C7-470E-9CB5-567CE6FC0A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2160" y="746280"/>
            <a:ext cx="6622920" cy="3725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CCCE-C9F6-418B-81B2-ED1DC34C6D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702-113A-40B5-86E0-B48FDA49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2DE-710A-4112-AFB6-176770EF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3795-A09D-4EC6-90E5-6050012A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AF44-5F20-4E2D-A1FF-354F4152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8638-7A4E-4C66-B253-24611C5E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E9ED-ACDB-43F3-AFB8-8ACC99A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75DA-6E7B-4C0A-8268-D6CEA7A0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2DF-41AF-424B-8301-B66040A35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06B7-21B1-4769-AD01-2224FBD3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08D3-3CB7-48F4-A1E1-896E477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C2BF-A537-4661-A6F1-341345D1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4737-2B76-496A-813F-C3BFF570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C793-5A3B-43C3-B296-DAB29345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27BF-F37E-4AA8-8F6F-4DDBFFB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D520-F44E-4C52-AD06-0150A4F6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7C41-6773-436C-8081-87125AC3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3C79-6BB0-470F-92B3-5B8940C7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707-F1D9-4144-9DE6-5BAF6F6A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E30-0827-49D8-827A-BB25FC9A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89F-5D0E-4347-AD3B-408CFD92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5AB-131E-4966-A47A-33B99540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3EE6-8083-483C-B45E-E58BEC1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C1A-8F6B-4FD9-9E00-78364A29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AD9-8678-47AA-8F70-20429E04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02AA-B269-4914-B9BC-B7AA53D41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BF52-E919-4221-8620-21AB423F2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rtc_prezent_png\rtc_shapka.png"/>
          <p:cNvPicPr/>
          <p:nvPr/>
        </p:nvPicPr>
        <p:blipFill>
          <a:blip r:embed="rId2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800" y="1563840"/>
            <a:ext cx="89996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Жалпы орта білім беру ұйымдарында оқу жетістіктерін сырттай бағалауды ұйымдастыру және өткізу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24"/>
          <p:cNvSpPr/>
          <p:nvPr/>
        </p:nvSpPr>
        <p:spPr>
          <a:xfrm>
            <a:off x="1835280" y="268200"/>
            <a:ext cx="6913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72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жылы ҚР жалпы орта білім беру ұйымдарында оқу жетістіктерін сырттай бағалауды өткізуге дайындық бойынша ақпараттық-түсіндіру  жұмысты ұйымдастыру материалд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3203640" y="4516560"/>
            <a:ext cx="2160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ffff"/>
                </a:solidFill>
                <a:latin typeface="Calibri"/>
              </a:rPr>
              <a:t>Астана-201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4"/>
          <p:cNvGraphicFramePr/>
          <p:nvPr/>
        </p:nvGraphicFramePr>
        <p:xfrm>
          <a:off x="136440" y="50760"/>
          <a:ext cx="15192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8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440" y="50760"/>
                    <a:ext cx="15192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3"/>
          <p:cNvSpPr/>
          <p:nvPr/>
        </p:nvSpPr>
        <p:spPr>
          <a:xfrm>
            <a:off x="484200" y="351000"/>
            <a:ext cx="83358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ндағы оқушының тәртіп сақтау ережес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71280" y="1177920"/>
            <a:ext cx="9072720" cy="4618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1692360" y="1247760"/>
            <a:ext cx="5759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стіленушіге рұқсат етілмей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4920" y="1913040"/>
            <a:ext cx="9074160" cy="2837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ір орыннан екінші орынға ауыс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СБД және уәкілетті Министрлік өкілінің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ұқсатынсыз тестілеу материалдарын аш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тестілеу материалдарын басқа білім алушылардың материалдарымен айырбастауға және (немесе) оларды қасақана бүлдіруге (жыртуға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лькуляторды, анықтамалық әдебиеттерді (Менделеев және тұздардың ерігіштігі кестесінен басқасын), электрондық жазба кітапшаларын, корректор сұйықтығын және байланыс құралдарын пайдал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сқа оқушылармен сөйлесуге және көшіруге, шпаргалка және басқа да анықтамалық материалдарды қолдануғ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  <a:ea typeface="Calibri"/>
              </a:rPr>
              <a:t>БСБД және уәкілетті Министрлік өкілінің рұқсатынсыз аудиториядан шығуғ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50840" y="120240"/>
            <a:ext cx="73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libri"/>
              </a:rPr>
              <a:t>ОЖСБ бойынша ақпараттар жарияланған интернет-ресурста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Схема 11" descr=""/>
          <p:cNvPicPr/>
          <p:nvPr/>
        </p:nvPicPr>
        <p:blipFill>
          <a:blip r:embed="rId2"/>
          <a:stretch/>
        </p:blipFill>
        <p:spPr>
          <a:xfrm>
            <a:off x="1974960" y="981000"/>
            <a:ext cx="4292640" cy="3987720"/>
          </a:xfrm>
          <a:prstGeom prst="rect">
            <a:avLst/>
          </a:prstGeom>
          <a:ln w="0">
            <a:noFill/>
          </a:ln>
        </p:spPr>
      </p:pic>
      <p:grpSp>
        <p:nvGrpSpPr>
          <p:cNvPr id="166" name="Группа 19"/>
          <p:cNvGrpSpPr/>
          <p:nvPr/>
        </p:nvGrpSpPr>
        <p:grpSpPr>
          <a:xfrm>
            <a:off x="179280" y="1995480"/>
            <a:ext cx="2016360" cy="2016000"/>
            <a:chOff x="179280" y="1995480"/>
            <a:chExt cx="2016360" cy="2016000"/>
          </a:xfrm>
        </p:grpSpPr>
        <p:pic>
          <p:nvPicPr>
            <p:cNvPr id="167" name="Рисунок 1" descr=""/>
            <p:cNvPicPr/>
            <p:nvPr/>
          </p:nvPicPr>
          <p:blipFill>
            <a:blip r:embed="rId3"/>
            <a:stretch/>
          </p:blipFill>
          <p:spPr>
            <a:xfrm>
              <a:off x="179280" y="1995480"/>
              <a:ext cx="201636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12" descr="Картинки по запросу картинки по теме интернет"/>
            <p:cNvPicPr/>
            <p:nvPr/>
          </p:nvPicPr>
          <p:blipFill>
            <a:blip r:embed="rId4"/>
            <a:stretch/>
          </p:blipFill>
          <p:spPr>
            <a:xfrm>
              <a:off x="276120" y="2080800"/>
              <a:ext cx="1822320" cy="1846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Группа 8"/>
          <p:cNvGrpSpPr/>
          <p:nvPr/>
        </p:nvGrpSpPr>
        <p:grpSpPr>
          <a:xfrm>
            <a:off x="6300720" y="1609560"/>
            <a:ext cx="2590920" cy="471600"/>
            <a:chOff x="6300720" y="1609560"/>
            <a:chExt cx="2590920" cy="471600"/>
          </a:xfrm>
        </p:grpSpPr>
        <p:sp>
          <p:nvSpPr>
            <p:cNvPr id="170" name="Скругленный прямоугольник 24"/>
            <p:cNvSpPr/>
            <p:nvPr/>
          </p:nvSpPr>
          <p:spPr>
            <a:xfrm>
              <a:off x="6300720" y="160956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Скругленный прямоугольник 6"/>
            <p:cNvSpPr/>
            <p:nvPr/>
          </p:nvSpPr>
          <p:spPr>
            <a:xfrm>
              <a:off x="6324480" y="163152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Нормативті құқықтық құжаттар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Группа 9"/>
          <p:cNvGrpSpPr/>
          <p:nvPr/>
        </p:nvGrpSpPr>
        <p:grpSpPr>
          <a:xfrm>
            <a:off x="6300720" y="2139840"/>
            <a:ext cx="2590920" cy="471600"/>
            <a:chOff x="6300720" y="2139840"/>
            <a:chExt cx="2590920" cy="471600"/>
          </a:xfrm>
        </p:grpSpPr>
        <p:sp>
          <p:nvSpPr>
            <p:cNvPr id="173" name="Скругленный прямоугольник 22"/>
            <p:cNvSpPr/>
            <p:nvPr/>
          </p:nvSpPr>
          <p:spPr>
            <a:xfrm>
              <a:off x="6300720" y="213984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Скругленный прямоугольник 8"/>
            <p:cNvSpPr/>
            <p:nvPr/>
          </p:nvSpPr>
          <p:spPr>
            <a:xfrm>
              <a:off x="6324480" y="216180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өткізу ережесі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Группа 10"/>
          <p:cNvGrpSpPr/>
          <p:nvPr/>
        </p:nvGrpSpPr>
        <p:grpSpPr>
          <a:xfrm>
            <a:off x="6319800" y="2670120"/>
            <a:ext cx="2590920" cy="471600"/>
            <a:chOff x="6319800" y="2670120"/>
            <a:chExt cx="2590920" cy="471600"/>
          </a:xfrm>
        </p:grpSpPr>
        <p:sp>
          <p:nvSpPr>
            <p:cNvPr id="176" name="Скругленный прямоугольник 20"/>
            <p:cNvSpPr/>
            <p:nvPr/>
          </p:nvSpPr>
          <p:spPr>
            <a:xfrm>
              <a:off x="6319800" y="2670120"/>
              <a:ext cx="2590920" cy="4716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Скругленный прямоугольник 10"/>
            <p:cNvSpPr/>
            <p:nvPr/>
          </p:nvSpPr>
          <p:spPr>
            <a:xfrm>
              <a:off x="6343560" y="2671560"/>
              <a:ext cx="25434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Тест спецификацияс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Группа 13"/>
          <p:cNvGrpSpPr/>
          <p:nvPr/>
        </p:nvGrpSpPr>
        <p:grpSpPr>
          <a:xfrm>
            <a:off x="6300720" y="3201840"/>
            <a:ext cx="2590920" cy="621000"/>
            <a:chOff x="6300720" y="3201840"/>
            <a:chExt cx="2590920" cy="621000"/>
          </a:xfrm>
        </p:grpSpPr>
        <p:sp>
          <p:nvSpPr>
            <p:cNvPr id="179" name="Скругленный прямоугольник 17"/>
            <p:cNvSpPr/>
            <p:nvPr/>
          </p:nvSpPr>
          <p:spPr>
            <a:xfrm>
              <a:off x="6300720" y="3201840"/>
              <a:ext cx="2590920" cy="62100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Скругленный прямоугольник 12"/>
            <p:cNvSpPr/>
            <p:nvPr/>
          </p:nvSpPr>
          <p:spPr>
            <a:xfrm>
              <a:off x="6324480" y="3230280"/>
              <a:ext cx="254340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649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500" spc="-1" strike="noStrike">
                  <a:solidFill>
                    <a:srgbClr val="ffffff"/>
                  </a:solidFill>
                  <a:latin typeface="Calibri"/>
                </a:rPr>
                <a:t>ОЖСБ тест тапсырмаларының үлгі нұсқалары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Группа 14"/>
          <p:cNvGrpSpPr/>
          <p:nvPr/>
        </p:nvGrpSpPr>
        <p:grpSpPr>
          <a:xfrm>
            <a:off x="6300720" y="3903840"/>
            <a:ext cx="2590920" cy="471240"/>
            <a:chOff x="6300720" y="3903840"/>
            <a:chExt cx="2590920" cy="471240"/>
          </a:xfrm>
        </p:grpSpPr>
        <p:sp>
          <p:nvSpPr>
            <p:cNvPr id="182" name="Скругленный прямоугольник 15"/>
            <p:cNvSpPr/>
            <p:nvPr/>
          </p:nvSpPr>
          <p:spPr>
            <a:xfrm>
              <a:off x="6300720" y="3903840"/>
              <a:ext cx="2590920" cy="471240"/>
            </a:xfrm>
            <a:prstGeom prst="roundRect">
              <a:avLst>
                <a:gd name="adj" fmla="val 16667"/>
              </a:avLst>
            </a:prstGeom>
            <a:solidFill>
              <a:srgbClr val="558ed5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Скругленный прямоугольник 14"/>
            <p:cNvSpPr/>
            <p:nvPr/>
          </p:nvSpPr>
          <p:spPr>
            <a:xfrm>
              <a:off x="6324480" y="3925800"/>
              <a:ext cx="254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60840" bIns="6084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Calibri"/>
                </a:rPr>
                <a:t>ОЖСБ жаңалықтары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4400" y="123840"/>
            <a:ext cx="91584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Ұлттық тестілеу орталығы әлеуметтік желілер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хема 1" descr=""/>
          <p:cNvPicPr/>
          <p:nvPr/>
        </p:nvPicPr>
        <p:blipFill>
          <a:blip r:embed="rId2"/>
          <a:stretch/>
        </p:blipFill>
        <p:spPr>
          <a:xfrm>
            <a:off x="176040" y="1298520"/>
            <a:ext cx="4322880" cy="2998800"/>
          </a:xfrm>
          <a:prstGeom prst="rect">
            <a:avLst/>
          </a:prstGeom>
          <a:ln w="0">
            <a:noFill/>
          </a:ln>
        </p:spPr>
      </p:pic>
      <p:sp>
        <p:nvSpPr>
          <p:cNvPr id="187" name="Скругленный прямоугольник 3"/>
          <p:cNvSpPr/>
          <p:nvPr/>
        </p:nvSpPr>
        <p:spPr>
          <a:xfrm>
            <a:off x="4500720" y="1419120"/>
            <a:ext cx="4464000" cy="316872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Оқырмандар ОЖСБ-ны ұйымдастыру және өткізу бойынша барлық сұрақтарға жауаптарды таба ал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040" indent="-284040"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Бұл ақпарат көздері оқу материалдары туралы және тестілеуге дайындық әдістері туралы ақпараттарды бере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Заголовок 1" descr=""/>
          <p:cNvPicPr/>
          <p:nvPr/>
        </p:nvPicPr>
        <p:blipFill>
          <a:blip r:embed="rId3"/>
          <a:stretch/>
        </p:blipFill>
        <p:spPr>
          <a:xfrm>
            <a:off x="139680" y="4309920"/>
            <a:ext cx="900432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1174680"/>
          </a:xfrm>
          <a:prstGeom prst="rect">
            <a:avLst/>
          </a:prstGeom>
          <a:ln w="0">
            <a:noFill/>
          </a:ln>
        </p:spPr>
      </p:pic>
      <p:pic>
        <p:nvPicPr>
          <p:cNvPr id="101" name="Схема 2" descr=""/>
          <p:cNvPicPr/>
          <p:nvPr/>
        </p:nvPicPr>
        <p:blipFill>
          <a:blip r:embed="rId2"/>
          <a:stretch/>
        </p:blipFill>
        <p:spPr>
          <a:xfrm>
            <a:off x="-6480" y="1596960"/>
            <a:ext cx="9144000" cy="35355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3851280" y="17082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ВОУД өткізіледі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-7920" y="915840"/>
            <a:ext cx="9144000" cy="69084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2007 жылғы 27 шілде № 319-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II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ҚР «Білім туралы» Заңының 55 бабына өзгертулер енгізілді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13.11.2015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№ 398-V</a:t>
            </a:r>
            <a:r>
              <a:rPr b="0" lang="kk-KZ" sz="1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600" spc="-1" strike="noStrike">
                <a:solidFill>
                  <a:srgbClr val="000000"/>
                </a:solidFill>
                <a:latin typeface="Calibri"/>
              </a:rPr>
              <a:t>2017 жылғы Оқу жетістіктерін сырттай бағалау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ОЖС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ОЖСБ-ны өткіз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0"/>
          <p:cNvSpPr/>
          <p:nvPr/>
        </p:nvSpPr>
        <p:spPr>
          <a:xfrm>
            <a:off x="-792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ОБ ОЖСБ қайда өткізіледі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589640" y="1177920"/>
            <a:ext cx="4572000" cy="582480"/>
          </a:xfrm>
          <a:prstGeom prst="rect">
            <a:avLst/>
          </a:prstGeom>
          <a:solidFill>
            <a:srgbClr val="95b3d7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Білім беру ұйымдары қалай анықталад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Группа 21"/>
          <p:cNvGrpSpPr/>
          <p:nvPr/>
        </p:nvGrpSpPr>
        <p:grpSpPr>
          <a:xfrm>
            <a:off x="4896000" y="1852560"/>
            <a:ext cx="4248000" cy="3167280"/>
            <a:chOff x="4896000" y="1852560"/>
            <a:chExt cx="4248000" cy="3167280"/>
          </a:xfrm>
        </p:grpSpPr>
        <p:sp>
          <p:nvSpPr>
            <p:cNvPr id="110" name="Прямоугольник 15"/>
            <p:cNvSpPr/>
            <p:nvPr/>
          </p:nvSpPr>
          <p:spPr>
            <a:xfrm>
              <a:off x="5543640" y="1852560"/>
              <a:ext cx="2527200" cy="2016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Прямоугольник 17"/>
            <p:cNvSpPr/>
            <p:nvPr/>
          </p:nvSpPr>
          <p:spPr>
            <a:xfrm>
              <a:off x="4896000" y="3921120"/>
              <a:ext cx="4248000" cy="10987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ыл сайын Білім саласындағы уәкілетті органмен анықталады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Группа 16"/>
          <p:cNvGrpSpPr/>
          <p:nvPr/>
        </p:nvGrpSpPr>
        <p:grpSpPr>
          <a:xfrm>
            <a:off x="119160" y="1849320"/>
            <a:ext cx="4165560" cy="3170520"/>
            <a:chOff x="119160" y="1849320"/>
            <a:chExt cx="4165560" cy="3170520"/>
          </a:xfrm>
        </p:grpSpPr>
        <p:sp>
          <p:nvSpPr>
            <p:cNvPr id="113" name="Прямоугольник 11"/>
            <p:cNvSpPr/>
            <p:nvPr/>
          </p:nvSpPr>
          <p:spPr>
            <a:xfrm>
              <a:off x="119160" y="3927600"/>
              <a:ext cx="4165560" cy="109224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000000"/>
                  </a:solidFill>
                  <a:latin typeface="Calibri"/>
                </a:rPr>
                <a:t>ОЖСБ  білім алушылар білім алып жатқан білім беру ұйымдарының базасында өткізілед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4" name="Группа 12"/>
            <p:cNvGrpSpPr/>
            <p:nvPr/>
          </p:nvGrpSpPr>
          <p:grpSpPr>
            <a:xfrm>
              <a:off x="1025640" y="1849320"/>
              <a:ext cx="2546280" cy="1986120"/>
              <a:chOff x="1025640" y="1849320"/>
              <a:chExt cx="2546280" cy="1986120"/>
            </a:xfrm>
          </p:grpSpPr>
          <p:sp>
            <p:nvSpPr>
              <p:cNvPr id="115" name="Прямоугольник 14"/>
              <p:cNvSpPr/>
              <p:nvPr/>
            </p:nvSpPr>
            <p:spPr>
              <a:xfrm>
                <a:off x="1025640" y="1849320"/>
                <a:ext cx="2546280" cy="198612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" name="Группа 18"/>
              <p:cNvGrpSpPr/>
              <p:nvPr/>
            </p:nvGrpSpPr>
            <p:grpSpPr>
              <a:xfrm>
                <a:off x="1781280" y="2303280"/>
                <a:ext cx="1220400" cy="406440"/>
                <a:chOff x="1781280" y="2303280"/>
                <a:chExt cx="1220400" cy="406440"/>
              </a:xfrm>
            </p:grpSpPr>
            <p:sp>
              <p:nvSpPr>
                <p:cNvPr id="117" name="Прямоугольник 19"/>
                <p:cNvSpPr/>
                <p:nvPr/>
              </p:nvSpPr>
              <p:spPr>
                <a:xfrm>
                  <a:off x="1881000" y="2303280"/>
                  <a:ext cx="1120680" cy="4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Прямоугольник 20"/>
                <p:cNvSpPr/>
                <p:nvPr/>
              </p:nvSpPr>
              <p:spPr>
                <a:xfrm>
                  <a:off x="1781280" y="2331720"/>
                  <a:ext cx="103500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3040" rIns="203040" tIns="76320" bIns="76320" anchor="ctr">
                  <a:noAutofit/>
                </a:bodyPr>
                <a:p>
                  <a:pPr>
                    <a:lnSpc>
                      <a:spcPct val="90000"/>
                    </a:lnSpc>
                    <a:spcAft>
                      <a:spcPts val="612"/>
                    </a:spcAft>
                    <a:tabLst>
                      <a:tab algn="l" pos="0"/>
                      <a:tab algn="l" pos="888840"/>
                      <a:tab algn="l" pos="1778040"/>
                      <a:tab algn="l" pos="2666880"/>
                      <a:tab algn="l" pos="3556080"/>
                      <a:tab algn="l" pos="4444920"/>
                      <a:tab algn="l" pos="5334120"/>
                      <a:tab algn="l" pos="6222960"/>
                      <a:tab algn="l" pos="7112160"/>
                      <a:tab algn="l" pos="8001000"/>
                      <a:tab algn="l" pos="8889840"/>
                      <a:tab algn="l" pos="9779040"/>
                      <a:tab algn="l" pos="1066788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Calibri"/>
                    </a:rPr>
                    <a:t>                    </a:t>
                  </a:r>
                  <a:r>
                    <a:rPr b="1" lang="ru-RU" sz="1400" spc="-1" strike="noStrike">
                      <a:solidFill>
                        <a:srgbClr val="ff0000"/>
                      </a:solidFill>
                      <a:latin typeface="Calibri"/>
                    </a:rPr>
                    <a:t>Мектеп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1" name="Заголовок 1"/>
          <p:cNvSpPr/>
          <p:nvPr/>
        </p:nvSpPr>
        <p:spPr>
          <a:xfrm>
            <a:off x="108000" y="123840"/>
            <a:ext cx="8856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қатысатын мектептердің іріктелу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6" descr=""/>
          <p:cNvPicPr/>
          <p:nvPr/>
        </p:nvPicPr>
        <p:blipFill>
          <a:blip r:embed="rId2"/>
          <a:stretch/>
        </p:blipFill>
        <p:spPr>
          <a:xfrm>
            <a:off x="-12600" y="1238400"/>
            <a:ext cx="91566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4"/>
          <p:cNvSpPr/>
          <p:nvPr/>
        </p:nvSpPr>
        <p:spPr>
          <a:xfrm>
            <a:off x="179280" y="6048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Пәндер мен тест тапсырмалар сан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тестілеу уақы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Схема 5" descr=""/>
          <p:cNvPicPr/>
          <p:nvPr/>
        </p:nvPicPr>
        <p:blipFill>
          <a:blip r:embed="rId2"/>
          <a:stretch/>
        </p:blipFill>
        <p:spPr>
          <a:xfrm>
            <a:off x="0" y="1079640"/>
            <a:ext cx="9144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9560" y="997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4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Объект 6"/>
          <p:cNvSpPr/>
          <p:nvPr/>
        </p:nvSpPr>
        <p:spPr>
          <a:xfrm>
            <a:off x="-14400" y="776160"/>
            <a:ext cx="9139320" cy="37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бастауыш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1440" y="1519200"/>
            <a:ext cx="425592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–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62360" y="1492200"/>
            <a:ext cx="4462560" cy="273528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Берілген 4 жауап нұсқасынан бір дұрыс жауапты таңдайтын тапсырмала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- 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мәтін, әрбір мәтін 3 тест тапсырмадан тұра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Максималды балл  - 15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93840" y="11937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4892400" y="11509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Әдебиеттік оқ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2298600" y="4371840"/>
            <a:ext cx="42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30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9 сынып тест спецификацияс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бъект 6"/>
          <p:cNvSpPr/>
          <p:nvPr/>
        </p:nvSpPr>
        <p:spPr>
          <a:xfrm>
            <a:off x="0" y="81108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14400" y="1636560"/>
            <a:ext cx="28879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таңдайтын тапсырмала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3160" y="1636560"/>
            <a:ext cx="6259320" cy="3238560"/>
          </a:xfrm>
          <a:prstGeom prst="rect">
            <a:avLst/>
          </a:prstGeom>
          <a:solidFill>
            <a:srgbClr val="b9cde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Дүниежүзі тарихы, Қазақстан тарихы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 Биолог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Алгебра</a:t>
            </a: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Химия, Физика, Информа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пты - 25 тапсырма,                 бір немесе бірнеше дұрыс жауапты - 15 тапсыр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дұрыс жауапты тест тапсырмасы үшін - 1 балл, дұрыс орындалмаған тапсырма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Дұрыс орындалған бір немесе бірнеше дұрыс жауапты тест тапсырмасы үшін - 2 балл, бір қате үшін – 1 балл, екі және одан да көп қате үшін – 0 балл берілед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Максималды балл – 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58120" y="131904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Қазақ тіл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146400" y="1305000"/>
            <a:ext cx="296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Calibri"/>
              </a:rPr>
              <a:t>Жалпы білім беретін пәнд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973160" y="4821120"/>
            <a:ext cx="518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Calibri"/>
              </a:rPr>
              <a:t>Екі пән бойынша максималды балл – 75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132840" cy="85716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Calibri"/>
              </a:rPr>
              <a:t>11 сынып тест спецификациясы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61720"/>
            <a:ext cx="320364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Оқу сауаттылығ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360" y="1665000"/>
            <a:ext cx="3203640" cy="2778120"/>
          </a:xfrm>
          <a:prstGeom prst="rect">
            <a:avLst/>
          </a:prstGeom>
          <a:solidFill>
            <a:srgbClr val="c6d9f1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4 мәтін бойынша 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03280" y="1150560"/>
            <a:ext cx="3097080" cy="49212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Математикалық сауаттылы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03280" y="1665000"/>
            <a:ext cx="3097080" cy="2778120"/>
          </a:xfrm>
          <a:prstGeom prst="rect">
            <a:avLst/>
          </a:prstGeom>
          <a:solidFill>
            <a:srgbClr val="b9cde5"/>
          </a:solidFill>
          <a:ln w="9360">
            <a:solidFill>
              <a:srgbClr val="d9d9d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ды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7"/>
          <p:cNvSpPr/>
          <p:nvPr/>
        </p:nvSpPr>
        <p:spPr>
          <a:xfrm>
            <a:off x="6300720" y="1655640"/>
            <a:ext cx="2832120" cy="2787840"/>
          </a:xfrm>
          <a:prstGeom prst="rect">
            <a:avLst/>
          </a:prstGeom>
          <a:solidFill>
            <a:srgbClr val="b9cde5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alibri"/>
              </a:rPr>
              <a:t>Берілген 5 жауап нұсқасынан бір дұрыс жауабы бар тапсырмала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ұрыс орындалған әр тапсырма үшін  - 1 бал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ксимальный балл - 2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0" y="4464000"/>
            <a:ext cx="9132840" cy="48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Үш пән бойынша максималды балл – 60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Текст 4"/>
          <p:cNvSpPr/>
          <p:nvPr/>
        </p:nvSpPr>
        <p:spPr>
          <a:xfrm>
            <a:off x="6300720" y="1150920"/>
            <a:ext cx="2832120" cy="493560"/>
          </a:xfrm>
          <a:prstGeom prst="rect">
            <a:avLst/>
          </a:prstGeom>
          <a:solidFill>
            <a:srgbClr val="c6d9f1"/>
          </a:solidFill>
          <a:ln w="284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Қазақстан тарих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бъект 6"/>
          <p:cNvSpPr/>
          <p:nvPr/>
        </p:nvSpPr>
        <p:spPr>
          <a:xfrm>
            <a:off x="0" y="765000"/>
            <a:ext cx="9132840" cy="39852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ffff"/>
                </a:solidFill>
                <a:latin typeface="Calibri"/>
              </a:rPr>
              <a:t>Тест жалпы білім беретін оқу бағдарламаларына сәйкес оқу материалдарын қамтид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E:\rtc_prezent_png\rtc_shapka.png"/>
          <p:cNvPicPr/>
          <p:nvPr/>
        </p:nvPicPr>
        <p:blipFill>
          <a:blip r:embed="rId1"/>
          <a:stretch/>
        </p:blipFill>
        <p:spPr>
          <a:xfrm>
            <a:off x="-14400" y="-20520"/>
            <a:ext cx="9158400" cy="1177920"/>
          </a:xfrm>
          <a:prstGeom prst="rect">
            <a:avLst/>
          </a:prstGeom>
          <a:ln w="0">
            <a:noFill/>
          </a:ln>
        </p:spPr>
      </p:pic>
      <p:sp>
        <p:nvSpPr>
          <p:cNvPr id="152" name="Заголовок 1"/>
          <p:cNvSpPr/>
          <p:nvPr/>
        </p:nvSpPr>
        <p:spPr>
          <a:xfrm>
            <a:off x="826920" y="333360"/>
            <a:ext cx="7777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ffff"/>
                </a:solidFill>
                <a:latin typeface="Calibri"/>
              </a:rPr>
              <a:t>ОЖСБ-ға дайындық материалда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кругленный прямоугольник 2"/>
          <p:cNvSpPr/>
          <p:nvPr/>
        </p:nvSpPr>
        <p:spPr>
          <a:xfrm>
            <a:off x="108000" y="1157400"/>
            <a:ext cx="8928000" cy="439560"/>
          </a:xfrm>
          <a:prstGeom prst="roundRect">
            <a:avLst>
              <a:gd name="adj" fmla="val 0"/>
            </a:avLst>
          </a:prstGeom>
          <a:solidFill>
            <a:srgbClr val="ebf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ТО сайтында тест тапсырмаларының үлгі нұсқалары жарияланға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Скругленный прямоугольник 6"/>
          <p:cNvSpPr/>
          <p:nvPr/>
        </p:nvSpPr>
        <p:spPr>
          <a:xfrm>
            <a:off x="108000" y="1635120"/>
            <a:ext cx="8928000" cy="665280"/>
          </a:xfrm>
          <a:prstGeom prst="roundRect">
            <a:avLst>
              <a:gd name="adj" fmla="val 0"/>
            </a:avLst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Ұлттық тестілеу орталығымен ОЖСБ байқау сынағы сұрақ-кітапшалары жә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Calibri"/>
              </a:rPr>
              <a:t>Оқу-әдістемелік құралдары шығарылад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6531120" y="2328840"/>
            <a:ext cx="204300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6" name="Рисунок 4" descr=""/>
          <p:cNvPicPr/>
          <p:nvPr/>
        </p:nvPicPr>
        <p:blipFill>
          <a:blip r:embed="rId3"/>
          <a:stretch/>
        </p:blipFill>
        <p:spPr>
          <a:xfrm>
            <a:off x="3897360" y="2338560"/>
            <a:ext cx="2122560" cy="2743200"/>
          </a:xfrm>
          <a:prstGeom prst="rect">
            <a:avLst/>
          </a:prstGeom>
          <a:ln w="9360">
            <a:solidFill>
              <a:srgbClr val="8eb4e3"/>
            </a:solidFill>
            <a:miter/>
          </a:ln>
        </p:spPr>
      </p:pic>
      <p:pic>
        <p:nvPicPr>
          <p:cNvPr id="157" name="Рисунок 7" descr=""/>
          <p:cNvPicPr/>
          <p:nvPr/>
        </p:nvPicPr>
        <p:blipFill>
          <a:blip r:embed="rId4"/>
          <a:stretch/>
        </p:blipFill>
        <p:spPr>
          <a:xfrm>
            <a:off x="108000" y="2335320"/>
            <a:ext cx="3311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6:09:31Z</dcterms:created>
  <dc:creator>PR</dc:creator>
  <dc:description/>
  <dc:language>en-US</dc:language>
  <cp:lastModifiedBy>Жумаханова Гульнур</cp:lastModifiedBy>
  <cp:lastPrinted>2016-01-19T05:15:24Z</cp:lastPrinted>
  <dcterms:modified xsi:type="dcterms:W3CDTF">2017-03-17T05:40:32Z</dcterms:modified>
  <cp:revision>657</cp:revision>
  <dc:subject/>
  <dc:title>Презентация PowerPoint</dc:title>
</cp:coreProperties>
</file>