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16AF-7D20-405E-8FB1-283F718BB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4769-684A-4497-BD56-D6F6CA85C7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F5B7-CADC-46D7-8763-9011D1B68A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A49E-884A-49B1-9687-25B428C57A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8BBB-178A-4818-A883-16E42CA6E2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C57-3216-4129-A45D-0C1E4BBB0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EEAD-CA0A-4F68-A2C1-C8F3E5C249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40DA-2CAD-4539-87B6-1FFEDB866D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8A58-527B-470A-880B-C5E38266B3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CA8-7205-4AB2-8332-99EE3AFF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B5D1-3CF7-4E19-BD01-5B57095A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E1B-2905-4287-949D-B96B32C8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462-7E4B-4AF9-A101-502E8F24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01E2-383A-4F45-BC28-D9BB7D5A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D2DC-EB25-43BC-AC58-2828D972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0ABB-5770-4051-8E24-CED0A478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380E-355B-4BC0-B949-A45D9C9C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A729-6F07-4EAA-8560-CFC602F2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2EB2-DB61-4092-ADE2-3B3A8974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10A5-A5FE-43A3-B49D-21674294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892-62C1-4E34-A571-F1E967A6B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3EAD-F848-4BB2-9BBD-D3102F89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5BD9-377F-47CB-8031-AB8017A2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355D-07BB-44ED-A48A-EE16DF7C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1D31-F65B-4D04-863A-F4943DE7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134D-A503-41B4-90FA-271B028A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7FE-86B8-4399-90CC-55FDB71B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56A-7988-4FD5-9900-1D870366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9F9-9974-4A5F-9B12-A6BAB542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66F-750B-4B19-85F9-3EB858FF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342-FE16-4F1B-8D61-34480659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A62-96C7-495D-BB1A-323076B0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601-27DD-46CA-A1E7-519A0237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3968-94BC-4EE3-A0F5-51FF8B0046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4408-C4C8-44CD-960E-980B466F2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rtc_prezent_png\rtc_shapka.png"/>
          <p:cNvPicPr/>
          <p:nvPr/>
        </p:nvPicPr>
        <p:blipFill>
          <a:blip r:embed="rId2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800" y="1563840"/>
            <a:ext cx="89996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Организация и проведения внешней оценки учебных достижений в организациях общего среднего 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2050920" y="171360"/>
            <a:ext cx="669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риалы для организации информационно-разъяснительной работы по подготовке к проведению внешней оценки учебных достижений в организациях общего среднего образования в РК 201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3203640" y="4516560"/>
            <a:ext cx="21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Астана -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оугольник 3"/>
          <p:cNvSpPr/>
          <p:nvPr/>
        </p:nvSpPr>
        <p:spPr>
          <a:xfrm>
            <a:off x="484200" y="351000"/>
            <a:ext cx="83358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авила поведения учащихся в ходе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4920" y="1308240"/>
            <a:ext cx="9074160" cy="461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5"/>
          <p:cNvSpPr/>
          <p:nvPr/>
        </p:nvSpPr>
        <p:spPr>
          <a:xfrm>
            <a:off x="1692360" y="1305000"/>
            <a:ext cx="57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ируемым не разреша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4920" y="1913040"/>
            <a:ext cx="9074160" cy="31708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аживаться с места на место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ть без разреш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Министерств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К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тестирова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ь обмен материалами тестирования с другими обучающимися и (или) их умышленное повреждение (порчу)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калькулятором, справочной литературой (кроме таблицы Менделеева и таблицы растворимости солей), электронными записными книжками, корректирующими жидкостями и средствами мобильной связ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ариваться и списывать у других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учающихс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зоваться шпаргалкой и другими справочными материалам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42920"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ть из аудитории без разреш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я Министерства 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КСО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50840" y="120240"/>
            <a:ext cx="73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нтернет-ресурсы и размещенные информации для участников ВОУ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хема 11" descr=""/>
          <p:cNvPicPr/>
          <p:nvPr/>
        </p:nvPicPr>
        <p:blipFill>
          <a:blip r:embed="rId2"/>
          <a:stretch/>
        </p:blipFill>
        <p:spPr>
          <a:xfrm>
            <a:off x="1974960" y="981000"/>
            <a:ext cx="432252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64" name="Группа 19"/>
          <p:cNvGrpSpPr/>
          <p:nvPr/>
        </p:nvGrpSpPr>
        <p:grpSpPr>
          <a:xfrm>
            <a:off x="179280" y="1995480"/>
            <a:ext cx="2016360" cy="2016000"/>
            <a:chOff x="179280" y="1995480"/>
            <a:chExt cx="2016360" cy="2016000"/>
          </a:xfrm>
        </p:grpSpPr>
        <p:pic>
          <p:nvPicPr>
            <p:cNvPr id="165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179280" y="1995480"/>
              <a:ext cx="2016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12" descr="Картинки по запросу картинки по теме интернет"/>
            <p:cNvPicPr/>
            <p:nvPr/>
          </p:nvPicPr>
          <p:blipFill>
            <a:blip r:embed="rId4"/>
            <a:stretch/>
          </p:blipFill>
          <p:spPr>
            <a:xfrm>
              <a:off x="276120" y="2080800"/>
              <a:ext cx="1822320" cy="18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Группа 8"/>
          <p:cNvGrpSpPr/>
          <p:nvPr/>
        </p:nvGrpSpPr>
        <p:grpSpPr>
          <a:xfrm>
            <a:off x="6372360" y="1708200"/>
            <a:ext cx="2590560" cy="471600"/>
            <a:chOff x="6372360" y="1708200"/>
            <a:chExt cx="2590560" cy="471600"/>
          </a:xfrm>
        </p:grpSpPr>
        <p:sp>
          <p:nvSpPr>
            <p:cNvPr id="168" name="Скругленный прямоугольник 24"/>
            <p:cNvSpPr/>
            <p:nvPr/>
          </p:nvSpPr>
          <p:spPr>
            <a:xfrm>
              <a:off x="6372360" y="170820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Скругленный прямоугольник 6"/>
            <p:cNvSpPr/>
            <p:nvPr/>
          </p:nvSpPr>
          <p:spPr>
            <a:xfrm>
              <a:off x="6396120" y="173016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рмативные правовые документ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Группа 9"/>
          <p:cNvGrpSpPr/>
          <p:nvPr/>
        </p:nvGrpSpPr>
        <p:grpSpPr>
          <a:xfrm>
            <a:off x="6372360" y="2238480"/>
            <a:ext cx="2590560" cy="471240"/>
            <a:chOff x="6372360" y="2238480"/>
            <a:chExt cx="2590560" cy="471240"/>
          </a:xfrm>
        </p:grpSpPr>
        <p:sp>
          <p:nvSpPr>
            <p:cNvPr id="171" name="Скругленный прямоугольник 22"/>
            <p:cNvSpPr/>
            <p:nvPr/>
          </p:nvSpPr>
          <p:spPr>
            <a:xfrm>
              <a:off x="6372360" y="2238480"/>
              <a:ext cx="259056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Скругленный прямоугольник 8"/>
            <p:cNvSpPr/>
            <p:nvPr/>
          </p:nvSpPr>
          <p:spPr>
            <a:xfrm>
              <a:off x="6396120" y="2260440"/>
              <a:ext cx="254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Правила проведения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Группа 10"/>
          <p:cNvGrpSpPr/>
          <p:nvPr/>
        </p:nvGrpSpPr>
        <p:grpSpPr>
          <a:xfrm>
            <a:off x="6391440" y="2747880"/>
            <a:ext cx="2590560" cy="471600"/>
            <a:chOff x="6391440" y="2747880"/>
            <a:chExt cx="2590560" cy="471600"/>
          </a:xfrm>
        </p:grpSpPr>
        <p:sp>
          <p:nvSpPr>
            <p:cNvPr id="174" name="Скругленный прямоугольник 20"/>
            <p:cNvSpPr/>
            <p:nvPr/>
          </p:nvSpPr>
          <p:spPr>
            <a:xfrm>
              <a:off x="6391440" y="274788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Скругленный прямоугольник 10"/>
            <p:cNvSpPr/>
            <p:nvPr/>
          </p:nvSpPr>
          <p:spPr>
            <a:xfrm>
              <a:off x="6415200" y="276984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Спецификация теста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Группа 13"/>
          <p:cNvGrpSpPr/>
          <p:nvPr/>
        </p:nvGrpSpPr>
        <p:grpSpPr>
          <a:xfrm>
            <a:off x="6372360" y="3300480"/>
            <a:ext cx="2590560" cy="471600"/>
            <a:chOff x="6372360" y="3300480"/>
            <a:chExt cx="2590560" cy="471600"/>
          </a:xfrm>
        </p:grpSpPr>
        <p:sp>
          <p:nvSpPr>
            <p:cNvPr id="177" name="Скругленный прямоугольник 17"/>
            <p:cNvSpPr/>
            <p:nvPr/>
          </p:nvSpPr>
          <p:spPr>
            <a:xfrm>
              <a:off x="6372360" y="3300480"/>
              <a:ext cx="259056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Скругленный прямоугольник 12"/>
            <p:cNvSpPr/>
            <p:nvPr/>
          </p:nvSpPr>
          <p:spPr>
            <a:xfrm>
              <a:off x="6396120" y="3322440"/>
              <a:ext cx="2543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Примерные варианты тестовых заданий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Группа 14"/>
          <p:cNvGrpSpPr/>
          <p:nvPr/>
        </p:nvGrpSpPr>
        <p:grpSpPr>
          <a:xfrm>
            <a:off x="6372360" y="3830760"/>
            <a:ext cx="2590560" cy="471240"/>
            <a:chOff x="6372360" y="3830760"/>
            <a:chExt cx="2590560" cy="471240"/>
          </a:xfrm>
        </p:grpSpPr>
        <p:sp>
          <p:nvSpPr>
            <p:cNvPr id="180" name="Скругленный прямоугольник 15"/>
            <p:cNvSpPr/>
            <p:nvPr/>
          </p:nvSpPr>
          <p:spPr>
            <a:xfrm>
              <a:off x="6372360" y="3830760"/>
              <a:ext cx="259056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Скругленный прямоугольник 14"/>
            <p:cNvSpPr/>
            <p:nvPr/>
          </p:nvSpPr>
          <p:spPr>
            <a:xfrm>
              <a:off x="6396120" y="3852720"/>
              <a:ext cx="2543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вости ВОУД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4400" y="123840"/>
            <a:ext cx="9158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 социальных сетях Национального центра тест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хема 1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4322880" cy="2998800"/>
          </a:xfrm>
          <a:prstGeom prst="rect">
            <a:avLst/>
          </a:prstGeom>
          <a:ln w="0">
            <a:noFill/>
          </a:ln>
        </p:spPr>
      </p:pic>
      <p:sp>
        <p:nvSpPr>
          <p:cNvPr id="185" name="Скругленный прямоугольник 3"/>
          <p:cNvSpPr/>
          <p:nvPr/>
        </p:nvSpPr>
        <p:spPr>
          <a:xfrm>
            <a:off x="4564080" y="1289160"/>
            <a:ext cx="4464000" cy="3168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Читатели могут найти ответы на все вопросы по организации и проведению ВОУД С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Данные источники информации будут предоставлять информацию об учебных материалах и способах подготовки к тестирован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Заголовок 1"/>
          <p:cNvSpPr/>
          <p:nvPr/>
        </p:nvSpPr>
        <p:spPr>
          <a:xfrm>
            <a:off x="138240" y="4309920"/>
            <a:ext cx="90057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Calibri"/>
              </a:rPr>
              <a:t>Переход на социальную сеть можно легко осуществить нажатием кнопок на сайте 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www.testcenter.k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11746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86840"/>
            <a:ext cx="9158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нешняя оценка учебных достижений (ВОУД) 2017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хема 2" descr=""/>
          <p:cNvPicPr/>
          <p:nvPr/>
        </p:nvPicPr>
        <p:blipFill>
          <a:blip r:embed="rId2"/>
          <a:stretch/>
        </p:blipFill>
        <p:spPr>
          <a:xfrm>
            <a:off x="0" y="1809720"/>
            <a:ext cx="9150480" cy="334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851280" y="19242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ВОУД проводи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1189080"/>
            <a:ext cx="9144000" cy="5904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Закон РК «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 образова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» от 27 июля 2007 года № 319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в статью 55 внесены измен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(от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3.11.2015 № 398-V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04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рганизация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-792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Где будет проводиться ВОУД С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458964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Как определяются организации образован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Группа 21"/>
          <p:cNvGrpSpPr/>
          <p:nvPr/>
        </p:nvGrpSpPr>
        <p:grpSpPr>
          <a:xfrm>
            <a:off x="4896000" y="1852560"/>
            <a:ext cx="4248000" cy="3167280"/>
            <a:chOff x="4896000" y="1852560"/>
            <a:chExt cx="4248000" cy="3167280"/>
          </a:xfrm>
        </p:grpSpPr>
        <p:sp>
          <p:nvSpPr>
            <p:cNvPr id="108" name="Прямоугольник 15"/>
            <p:cNvSpPr/>
            <p:nvPr/>
          </p:nvSpPr>
          <p:spPr>
            <a:xfrm>
              <a:off x="5543640" y="1852560"/>
              <a:ext cx="2527200" cy="201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Прямоугольник 17"/>
            <p:cNvSpPr/>
            <p:nvPr/>
          </p:nvSpPr>
          <p:spPr>
            <a:xfrm>
              <a:off x="4896000" y="3921120"/>
              <a:ext cx="4248000" cy="10987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Ежегодно определяются уполномоченным органом в области образования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Группа 16"/>
          <p:cNvGrpSpPr/>
          <p:nvPr/>
        </p:nvGrpSpPr>
        <p:grpSpPr>
          <a:xfrm>
            <a:off x="119160" y="1849320"/>
            <a:ext cx="4165560" cy="3170520"/>
            <a:chOff x="119160" y="1849320"/>
            <a:chExt cx="4165560" cy="3170520"/>
          </a:xfrm>
        </p:grpSpPr>
        <p:sp>
          <p:nvSpPr>
            <p:cNvPr id="111" name="Прямоугольник 11"/>
            <p:cNvSpPr/>
            <p:nvPr/>
          </p:nvSpPr>
          <p:spPr>
            <a:xfrm>
              <a:off x="119160" y="3927600"/>
              <a:ext cx="4165560" cy="109224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УД проводится на базе организаций образования, в которых  обучаю</a:t>
              </a:r>
              <a:r>
                <a:rPr b="0" lang="kk-KZ" sz="1800" spc="-1" strike="noStrike">
                  <a:solidFill>
                    <a:srgbClr val="000000"/>
                  </a:solidFill>
                  <a:latin typeface="Calibri"/>
                </a:rPr>
                <a:t>тся тестируемы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2" name="Группа 12"/>
            <p:cNvGrpSpPr/>
            <p:nvPr/>
          </p:nvGrpSpPr>
          <p:grpSpPr>
            <a:xfrm>
              <a:off x="1025640" y="1849320"/>
              <a:ext cx="2546280" cy="1986840"/>
              <a:chOff x="1025640" y="1849320"/>
              <a:chExt cx="2546280" cy="1986840"/>
            </a:xfrm>
          </p:grpSpPr>
          <p:sp>
            <p:nvSpPr>
              <p:cNvPr id="113" name="Прямоугольник 14"/>
              <p:cNvSpPr/>
              <p:nvPr/>
            </p:nvSpPr>
            <p:spPr>
              <a:xfrm>
                <a:off x="1025640" y="1849320"/>
                <a:ext cx="2546280" cy="1986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4" name="Группа 18"/>
              <p:cNvGrpSpPr/>
              <p:nvPr/>
            </p:nvGrpSpPr>
            <p:grpSpPr>
              <a:xfrm>
                <a:off x="1881360" y="2303280"/>
                <a:ext cx="1121400" cy="406800"/>
                <a:chOff x="1881360" y="2303280"/>
                <a:chExt cx="1121400" cy="406800"/>
              </a:xfrm>
            </p:grpSpPr>
            <p:sp>
              <p:nvSpPr>
                <p:cNvPr id="115" name="Прямоугольник 19"/>
                <p:cNvSpPr/>
                <p:nvPr/>
              </p:nvSpPr>
              <p:spPr>
                <a:xfrm>
                  <a:off x="1881360" y="2303280"/>
                  <a:ext cx="1121400" cy="4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Прямоугольник 20"/>
                <p:cNvSpPr/>
                <p:nvPr/>
              </p:nvSpPr>
              <p:spPr>
                <a:xfrm>
                  <a:off x="1881360" y="2303280"/>
                  <a:ext cx="1121400" cy="40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3040" rIns="203040" tIns="76320" bIns="7632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888840"/>
                      <a:tab algn="l" pos="1778040"/>
                      <a:tab algn="l" pos="2666880"/>
                      <a:tab algn="l" pos="3556080"/>
                      <a:tab algn="l" pos="4444920"/>
                      <a:tab algn="l" pos="5334120"/>
                      <a:tab algn="l" pos="6222960"/>
                      <a:tab algn="l" pos="7112160"/>
                      <a:tab algn="l" pos="8001000"/>
                      <a:tab algn="l" pos="8889840"/>
                      <a:tab algn="l" pos="977904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    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Calibri"/>
                    </a:rPr>
                    <a:t>Школа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Выборка школ, участвующих в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Схема 6" descr=""/>
          <p:cNvPicPr/>
          <p:nvPr/>
        </p:nvPicPr>
        <p:blipFill>
          <a:blip r:embed="rId2"/>
          <a:stretch/>
        </p:blipFill>
        <p:spPr>
          <a:xfrm>
            <a:off x="-12600" y="1238400"/>
            <a:ext cx="91566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4"/>
          <p:cNvSpPr/>
          <p:nvPr/>
        </p:nvSpPr>
        <p:spPr>
          <a:xfrm>
            <a:off x="179280" y="6048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редметы и количество тестовых задан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ремя тестир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хема 5" descr=""/>
          <p:cNvPicPr/>
          <p:nvPr/>
        </p:nvPicPr>
        <p:blipFill>
          <a:blip r:embed="rId2"/>
          <a:stretch/>
        </p:blipFill>
        <p:spPr>
          <a:xfrm>
            <a:off x="-36360" y="1017720"/>
            <a:ext cx="91440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956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пецификация теста для </a:t>
            </a: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4 клас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бъект 6"/>
          <p:cNvSpPr/>
          <p:nvPr/>
        </p:nvSpPr>
        <p:spPr>
          <a:xfrm>
            <a:off x="-14400" y="776160"/>
            <a:ext cx="9139320" cy="37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В тест включены учебные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материалы в соответствии с учебной программой начального 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1440" y="1519200"/>
            <a:ext cx="425592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 из 4 предложен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ьный балл –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62360" y="1492200"/>
            <a:ext cx="446256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вета из 4 предложе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текста, каждый текст включает по 3 тестовых зада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ьный балл  -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393840" y="1193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86760" y="11509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Литературное чт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938960" y="437184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Максимальный балл по двум предметам – 30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1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пецификация теста для </a:t>
            </a: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9 клас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Объект 6"/>
          <p:cNvSpPr/>
          <p:nvPr/>
        </p:nvSpPr>
        <p:spPr>
          <a:xfrm>
            <a:off x="-7920" y="789120"/>
            <a:ext cx="9132840" cy="39816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В тест включены учебные материалы в соответствии с учебными программами для общеобразовательной школы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440" y="1491840"/>
            <a:ext cx="2887920" cy="322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а из 5 предложен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ьный балл – 2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16360" y="1491840"/>
            <a:ext cx="6208560" cy="322740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Всемирная история, История Казахстана, Биология, География, Алгебра, Химия, Физика, Информа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Тест состоит из 25 заданий (с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бор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одного 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правильного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а из 5 предложенных) и 15 заданий (с одним или несколькими правильными ответами из множества предложенных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Задания с одним правильным ответом учащийся получает 1 балл, за неправильно выполненное задание – 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задания с одним или несколькими правильными ответами учащийся получает 2 балла, при допущении 1 ошибки – 1 балл, за 2 и более ошибок – 0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ьный балл  - 5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259200" y="1193760"/>
            <a:ext cx="16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Казахский язы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3145680" y="117936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Общеобразовательные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предм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1121400" y="4719600"/>
            <a:ext cx="49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Максимальный балл по двум предметам – 75 балл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2840" cy="85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пецификация теста для 11 </a:t>
            </a:r>
            <a:r>
              <a:rPr b="1" lang="kk-KZ" sz="3200" spc="-1" strike="noStrike">
                <a:solidFill>
                  <a:srgbClr val="ffffff"/>
                </a:solidFill>
                <a:latin typeface="Calibri"/>
              </a:rPr>
              <a:t>класса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60" y="1161720"/>
            <a:ext cx="320364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Грамотность ч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360" y="1665000"/>
            <a:ext cx="3203640" cy="2778120"/>
          </a:xfrm>
          <a:prstGeom prst="rect">
            <a:avLst/>
          </a:prstGeom>
          <a:solidFill>
            <a:srgbClr val="c6d9f1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 к 4 текста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03280" y="1150560"/>
            <a:ext cx="309708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Математическая грамот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03280" y="1665000"/>
            <a:ext cx="3097080" cy="2778120"/>
          </a:xfrm>
          <a:prstGeom prst="rect">
            <a:avLst/>
          </a:prstGeom>
          <a:solidFill>
            <a:srgbClr val="b9cde5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6300720" y="1663560"/>
            <a:ext cx="2832120" cy="2952720"/>
          </a:xfrm>
          <a:prstGeom prst="rect">
            <a:avLst/>
          </a:prstGeom>
          <a:solidFill>
            <a:srgbClr val="b9cde5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 выбором одного правильного ответа из 5 предложенны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верное выполнение каждого задания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0" y="4464000"/>
            <a:ext cx="9132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аксимальный балл по трем предметам – 6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Текст 4"/>
          <p:cNvSpPr/>
          <p:nvPr/>
        </p:nvSpPr>
        <p:spPr>
          <a:xfrm>
            <a:off x="6300720" y="1150920"/>
            <a:ext cx="2832120" cy="49356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стория Казахст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бъект 6"/>
          <p:cNvSpPr/>
          <p:nvPr/>
        </p:nvSpPr>
        <p:spPr>
          <a:xfrm>
            <a:off x="0" y="76500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ffffff"/>
                </a:solidFill>
                <a:latin typeface="Calibri"/>
              </a:rPr>
              <a:t>В тест включены учебные материалы в соответствии с учебными программами для общеобразовательно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0" name="Заголовок 1"/>
          <p:cNvSpPr/>
          <p:nvPr/>
        </p:nvSpPr>
        <p:spPr>
          <a:xfrm>
            <a:off x="826920" y="333360"/>
            <a:ext cx="777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Материалы по подготовке ВО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Скругленный прямоугольник 2"/>
          <p:cNvSpPr/>
          <p:nvPr/>
        </p:nvSpPr>
        <p:spPr>
          <a:xfrm>
            <a:off x="108000" y="1157400"/>
            <a:ext cx="8928000" cy="439560"/>
          </a:xfrm>
          <a:prstGeom prst="roundRect">
            <a:avLst>
              <a:gd name="adj" fmla="val 0"/>
            </a:avLst>
          </a:prstGeom>
          <a:solidFill>
            <a:srgbClr val="ebf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сайте НЦТ размещены примерные варианты тестовых задан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Скругленный прямоугольник 6"/>
          <p:cNvSpPr/>
          <p:nvPr/>
        </p:nvSpPr>
        <p:spPr>
          <a:xfrm>
            <a:off x="108000" y="1635120"/>
            <a:ext cx="8928000" cy="665280"/>
          </a:xfrm>
          <a:prstGeom prst="roundRect">
            <a:avLst>
              <a:gd name="adj" fmla="val 0"/>
            </a:avLst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Национальным центром тестирования выпускаются Книжки-вопросники пробного тестир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и Учебно-методические пособия ВО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2"/>
          <a:stretch/>
        </p:blipFill>
        <p:spPr>
          <a:xfrm>
            <a:off x="6531120" y="2328840"/>
            <a:ext cx="204300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4" name="Рисунок 4" descr=""/>
          <p:cNvPicPr/>
          <p:nvPr/>
        </p:nvPicPr>
        <p:blipFill>
          <a:blip r:embed="rId3"/>
          <a:stretch/>
        </p:blipFill>
        <p:spPr>
          <a:xfrm>
            <a:off x="3897360" y="2338560"/>
            <a:ext cx="212256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5" name="Рисунок 7" descr=""/>
          <p:cNvPicPr/>
          <p:nvPr/>
        </p:nvPicPr>
        <p:blipFill>
          <a:blip r:embed="rId4"/>
          <a:stretch/>
        </p:blipFill>
        <p:spPr>
          <a:xfrm>
            <a:off x="108000" y="2335320"/>
            <a:ext cx="331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Жумаханова Гульнур</cp:lastModifiedBy>
  <cp:lastPrinted>2017-02-27T09:36:03Z</cp:lastPrinted>
  <dcterms:modified xsi:type="dcterms:W3CDTF">2017-03-17T05:44:44Z</dcterms:modified>
  <cp:revision>639</cp:revision>
  <dc:subject/>
  <dc:title>Презентация PowerPoint</dc:title>
</cp:coreProperties>
</file>