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5145088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800" y="745920"/>
            <a:ext cx="662292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35131-BBA7-46C2-8684-68764BC30B7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2160" y="746280"/>
            <a:ext cx="6622920" cy="37256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B9FA5-52C5-4FF9-89EF-ADB5A5CC96E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-270000" y="801720"/>
            <a:ext cx="7139160" cy="40165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6B9BB-BCF7-40A8-BBFC-DF3EB79CFC3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-270000" y="801720"/>
            <a:ext cx="7139160" cy="4016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97309-2EE5-4BBC-9400-DE77842D6A6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2160" y="746280"/>
            <a:ext cx="6622920" cy="37256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AC97A-3B1D-4C7E-BEF0-006B1350F8B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2160" y="746280"/>
            <a:ext cx="6622920" cy="37256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8C3A3-C990-4EE4-B2C9-EFEB3472CE9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2160" y="746280"/>
            <a:ext cx="6622920" cy="37256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EDEAC-DE09-4E5F-8601-C6B3B17B536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2160" y="746280"/>
            <a:ext cx="6622920" cy="37256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EBA68-FA0A-469C-BB9F-1803989CE17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2160" y="746280"/>
            <a:ext cx="6622920" cy="37256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7980F-0EF4-4A92-8154-1BB99C6A14C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5F2D-31F3-4682-840A-5E50F4AA2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D1A5-AB90-42D8-B6D2-AC838D0F1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725F-03D0-4F29-B432-6673E8D08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374D-6A13-4CC9-B187-28E5A2839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8FF22-A332-4F68-8154-75DD57157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C3211-3D54-4422-BC8E-D2FDD69B0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101C7-0F9F-4D55-873F-532ED0AA5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FD732-14DE-4863-AB4B-BDE13F4E8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DA172-39E8-4680-919A-EFFC4842E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2EAB4-DFE6-4C4C-816D-A8BD12D44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836DB-86B4-44FF-A6E9-B1AB0AC9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CF01-F7C6-4FD8-9148-31D59BFD7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914B3-FB9D-418E-9C0D-206A8C59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E87AF-3126-444A-9D61-C4E9F0F3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B7A16-4B23-4F59-8EBC-C082DCEA0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EECF6-3B8D-4070-ABB7-87F2CF06E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C81E9-650C-46A4-AFBE-4358665AB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1B90-B724-4593-99D1-14538DB98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9296-4E3E-4678-B926-BCD81D230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78C8-F195-4C42-B0AB-32F3190B4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DAFD-A0FB-4FCC-9C37-80AF65124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98E4-2B63-4193-8DDA-24A44D5A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499A-DFE5-48AA-910A-10B62693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DE9A-86B4-4BCF-8ADC-9B290C69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B7CE5-68D1-4338-B4C2-4AB5098A70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196A5-5AFE-4E65-B16E-3840B9D836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E:\rtc_prezent_png\rtc_shapka.png"/>
          <p:cNvPicPr/>
          <p:nvPr/>
        </p:nvPicPr>
        <p:blipFill>
          <a:blip r:embed="rId2"/>
          <a:stretch/>
        </p:blipFill>
        <p:spPr>
          <a:xfrm>
            <a:off x="-14400" y="-20520"/>
            <a:ext cx="9158400" cy="11779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800" y="1563840"/>
            <a:ext cx="8999640" cy="19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Жалпы орта білім беру ұйымдарында оқу жетістіктерін сырттай бағалауды ұйымдастыру және өткізу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рямоугольник 24"/>
          <p:cNvSpPr/>
          <p:nvPr/>
        </p:nvSpPr>
        <p:spPr>
          <a:xfrm>
            <a:off x="1835280" y="268200"/>
            <a:ext cx="6913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172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1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жылы ҚР жалпы орта білім беру ұйымдарында оқу жетістіктерін сырттай бағалауды өткізуге дайындық бойынша ақпараттық-түсіндіру  жұмысты ұйымдастыру материалда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8"/>
          <p:cNvSpPr/>
          <p:nvPr/>
        </p:nvSpPr>
        <p:spPr>
          <a:xfrm>
            <a:off x="3203640" y="4516560"/>
            <a:ext cx="2160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ffff"/>
                </a:solidFill>
                <a:latin typeface="Calibri"/>
              </a:rPr>
              <a:t>Астана-201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" name="Object 84"/>
          <p:cNvGraphicFramePr/>
          <p:nvPr/>
        </p:nvGraphicFramePr>
        <p:xfrm>
          <a:off x="136440" y="50760"/>
          <a:ext cx="1519200" cy="93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Object 8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6440" y="50760"/>
                    <a:ext cx="151920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-20520"/>
            <a:ext cx="9158400" cy="1177920"/>
          </a:xfrm>
          <a:prstGeom prst="rect">
            <a:avLst/>
          </a:prstGeom>
          <a:ln w="0">
            <a:noFill/>
          </a:ln>
        </p:spPr>
      </p:pic>
      <p:sp>
        <p:nvSpPr>
          <p:cNvPr id="159" name="Прямоугольник 3"/>
          <p:cNvSpPr/>
          <p:nvPr/>
        </p:nvSpPr>
        <p:spPr>
          <a:xfrm>
            <a:off x="484200" y="351000"/>
            <a:ext cx="833580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Тестілеу уақытындағы оқушының тәртіп сақтау ережес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рямоугольник 4"/>
          <p:cNvSpPr/>
          <p:nvPr/>
        </p:nvSpPr>
        <p:spPr>
          <a:xfrm>
            <a:off x="71280" y="1177920"/>
            <a:ext cx="9072720" cy="46188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Прямоугольник 5"/>
          <p:cNvSpPr/>
          <p:nvPr/>
        </p:nvSpPr>
        <p:spPr>
          <a:xfrm>
            <a:off x="1692360" y="1247760"/>
            <a:ext cx="575928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стіленушіге рұқсат етілмейді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Прямоугольник 6"/>
          <p:cNvSpPr/>
          <p:nvPr/>
        </p:nvSpPr>
        <p:spPr>
          <a:xfrm>
            <a:off x="34920" y="1913040"/>
            <a:ext cx="9074160" cy="283716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7040" indent="-2570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ір орыннан екінші орынға ауысуғ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БСБД және уәкілетті Министрлік өкілінің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ұқсатынсыз тестілеу материалдарын ашуғ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kk-KZ" sz="1800" spc="-1" strike="noStrike">
                <a:solidFill>
                  <a:srgbClr val="000000"/>
                </a:solidFill>
                <a:latin typeface="Calibri"/>
              </a:rPr>
              <a:t>тестілеу материалдарын басқа білім алушылардың материалдарымен айырбастауға және (немесе) оларды қасақана бүлдіруге (жыртуға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лькуляторды, анықтамалық әдебиеттерді (Менделеев және тұздардың ерігіштігі кестесінен басқасын), электрондық жазба кітапшаларын, корректор сұйықтығын және байланыс құралдарын пайдалануғ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асқа оқушылармен сөйлесуге және көшіруге, шпаргалка және басқа да анықтамалық материалдарды қолдануғ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Calibri"/>
                <a:ea typeface="Calibri"/>
              </a:rPr>
              <a:t>БСБД және уәкілетті Министрлік өкілінің рұқсатынсыз аудиториядан шығуғ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-20520"/>
            <a:ext cx="9158400" cy="117792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50840" y="120240"/>
            <a:ext cx="73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Calibri"/>
              </a:rPr>
              <a:t>ОЖСБ бойынша ақпараттар жарияланған интернет-ресурстар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Схема 11" descr=""/>
          <p:cNvPicPr/>
          <p:nvPr/>
        </p:nvPicPr>
        <p:blipFill>
          <a:blip r:embed="rId2"/>
          <a:stretch/>
        </p:blipFill>
        <p:spPr>
          <a:xfrm>
            <a:off x="1974960" y="981000"/>
            <a:ext cx="4292640" cy="3987720"/>
          </a:xfrm>
          <a:prstGeom prst="rect">
            <a:avLst/>
          </a:prstGeom>
          <a:ln w="0">
            <a:noFill/>
          </a:ln>
        </p:spPr>
      </p:pic>
      <p:grpSp>
        <p:nvGrpSpPr>
          <p:cNvPr id="166" name="Группа 19"/>
          <p:cNvGrpSpPr/>
          <p:nvPr/>
        </p:nvGrpSpPr>
        <p:grpSpPr>
          <a:xfrm>
            <a:off x="179280" y="1995480"/>
            <a:ext cx="2016360" cy="2016000"/>
            <a:chOff x="179280" y="1995480"/>
            <a:chExt cx="2016360" cy="2016000"/>
          </a:xfrm>
        </p:grpSpPr>
        <p:pic>
          <p:nvPicPr>
            <p:cNvPr id="167" name="Рисунок 1" descr=""/>
            <p:cNvPicPr/>
            <p:nvPr/>
          </p:nvPicPr>
          <p:blipFill>
            <a:blip r:embed="rId3"/>
            <a:stretch/>
          </p:blipFill>
          <p:spPr>
            <a:xfrm>
              <a:off x="179280" y="1995480"/>
              <a:ext cx="2016360" cy="20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Рисунок 12" descr="Картинки по запросу картинки по теме интернет"/>
            <p:cNvPicPr/>
            <p:nvPr/>
          </p:nvPicPr>
          <p:blipFill>
            <a:blip r:embed="rId4"/>
            <a:stretch/>
          </p:blipFill>
          <p:spPr>
            <a:xfrm>
              <a:off x="276120" y="2080800"/>
              <a:ext cx="1822320" cy="184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9" name="Группа 8"/>
          <p:cNvGrpSpPr/>
          <p:nvPr/>
        </p:nvGrpSpPr>
        <p:grpSpPr>
          <a:xfrm>
            <a:off x="6300720" y="1609560"/>
            <a:ext cx="2590920" cy="471600"/>
            <a:chOff x="6300720" y="1609560"/>
            <a:chExt cx="2590920" cy="471600"/>
          </a:xfrm>
        </p:grpSpPr>
        <p:sp>
          <p:nvSpPr>
            <p:cNvPr id="170" name="Скругленный прямоугольник 24"/>
            <p:cNvSpPr/>
            <p:nvPr/>
          </p:nvSpPr>
          <p:spPr>
            <a:xfrm>
              <a:off x="6300720" y="1609560"/>
              <a:ext cx="2590920" cy="471600"/>
            </a:xfrm>
            <a:prstGeom prst="roundRect">
              <a:avLst>
                <a:gd name="adj" fmla="val 16667"/>
              </a:avLst>
            </a:prstGeom>
            <a:solidFill>
              <a:srgbClr val="558ed5">
                <a:alpha val="90000"/>
              </a:srgbClr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Скругленный прямоугольник 6"/>
            <p:cNvSpPr/>
            <p:nvPr/>
          </p:nvSpPr>
          <p:spPr>
            <a:xfrm>
              <a:off x="6324480" y="1631520"/>
              <a:ext cx="25434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Calibri"/>
                </a:rPr>
                <a:t>Нормативті құқықтық құжаттар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2" name="Группа 9"/>
          <p:cNvGrpSpPr/>
          <p:nvPr/>
        </p:nvGrpSpPr>
        <p:grpSpPr>
          <a:xfrm>
            <a:off x="6300720" y="2139840"/>
            <a:ext cx="2590920" cy="471600"/>
            <a:chOff x="6300720" y="2139840"/>
            <a:chExt cx="2590920" cy="471600"/>
          </a:xfrm>
        </p:grpSpPr>
        <p:sp>
          <p:nvSpPr>
            <p:cNvPr id="173" name="Скругленный прямоугольник 22"/>
            <p:cNvSpPr/>
            <p:nvPr/>
          </p:nvSpPr>
          <p:spPr>
            <a:xfrm>
              <a:off x="6300720" y="2139840"/>
              <a:ext cx="2590920" cy="471600"/>
            </a:xfrm>
            <a:prstGeom prst="roundRect">
              <a:avLst>
                <a:gd name="adj" fmla="val 16667"/>
              </a:avLst>
            </a:prstGeom>
            <a:solidFill>
              <a:srgbClr val="558ed5">
                <a:alpha val="90000"/>
              </a:srgbClr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Скругленный прямоугольник 8"/>
            <p:cNvSpPr/>
            <p:nvPr/>
          </p:nvSpPr>
          <p:spPr>
            <a:xfrm>
              <a:off x="6324480" y="2161800"/>
              <a:ext cx="25434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Calibri"/>
                </a:rPr>
                <a:t>ОЖСБ өткізу ережесі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5" name="Группа 10"/>
          <p:cNvGrpSpPr/>
          <p:nvPr/>
        </p:nvGrpSpPr>
        <p:grpSpPr>
          <a:xfrm>
            <a:off x="6319800" y="2670120"/>
            <a:ext cx="2590920" cy="471600"/>
            <a:chOff x="6319800" y="2670120"/>
            <a:chExt cx="2590920" cy="471600"/>
          </a:xfrm>
        </p:grpSpPr>
        <p:sp>
          <p:nvSpPr>
            <p:cNvPr id="176" name="Скругленный прямоугольник 20"/>
            <p:cNvSpPr/>
            <p:nvPr/>
          </p:nvSpPr>
          <p:spPr>
            <a:xfrm>
              <a:off x="6319800" y="2670120"/>
              <a:ext cx="2590920" cy="471600"/>
            </a:xfrm>
            <a:prstGeom prst="roundRect">
              <a:avLst>
                <a:gd name="adj" fmla="val 16667"/>
              </a:avLst>
            </a:prstGeom>
            <a:solidFill>
              <a:srgbClr val="558ed5">
                <a:alpha val="90000"/>
              </a:srgbClr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Скругленный прямоугольник 10"/>
            <p:cNvSpPr/>
            <p:nvPr/>
          </p:nvSpPr>
          <p:spPr>
            <a:xfrm>
              <a:off x="6343560" y="2671560"/>
              <a:ext cx="25434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Calibri"/>
                </a:rPr>
                <a:t>Тест спецификациясы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8" name="Группа 13"/>
          <p:cNvGrpSpPr/>
          <p:nvPr/>
        </p:nvGrpSpPr>
        <p:grpSpPr>
          <a:xfrm>
            <a:off x="6300720" y="3201840"/>
            <a:ext cx="2590920" cy="621000"/>
            <a:chOff x="6300720" y="3201840"/>
            <a:chExt cx="2590920" cy="621000"/>
          </a:xfrm>
        </p:grpSpPr>
        <p:sp>
          <p:nvSpPr>
            <p:cNvPr id="179" name="Скругленный прямоугольник 17"/>
            <p:cNvSpPr/>
            <p:nvPr/>
          </p:nvSpPr>
          <p:spPr>
            <a:xfrm>
              <a:off x="6300720" y="3201840"/>
              <a:ext cx="2590920" cy="621000"/>
            </a:xfrm>
            <a:prstGeom prst="roundRect">
              <a:avLst>
                <a:gd name="adj" fmla="val 16667"/>
              </a:avLst>
            </a:prstGeom>
            <a:solidFill>
              <a:srgbClr val="558ed5">
                <a:alpha val="90000"/>
              </a:srgbClr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Скругленный прямоугольник 12"/>
            <p:cNvSpPr/>
            <p:nvPr/>
          </p:nvSpPr>
          <p:spPr>
            <a:xfrm>
              <a:off x="6324480" y="3230280"/>
              <a:ext cx="254340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ctr">
                <a:lnSpc>
                  <a:spcPct val="90000"/>
                </a:lnSpc>
                <a:spcAft>
                  <a:spcPts val="649"/>
                </a:spcAft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ru-RU" sz="1500" spc="-1" strike="noStrike">
                  <a:solidFill>
                    <a:srgbClr val="ffffff"/>
                  </a:solidFill>
                  <a:latin typeface="Calibri"/>
                </a:rPr>
                <a:t>ОЖСБ тест тапсырмаларының үлгі нұсқалары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1" name="Группа 14"/>
          <p:cNvGrpSpPr/>
          <p:nvPr/>
        </p:nvGrpSpPr>
        <p:grpSpPr>
          <a:xfrm>
            <a:off x="6300720" y="3903840"/>
            <a:ext cx="2590920" cy="471240"/>
            <a:chOff x="6300720" y="3903840"/>
            <a:chExt cx="2590920" cy="471240"/>
          </a:xfrm>
        </p:grpSpPr>
        <p:sp>
          <p:nvSpPr>
            <p:cNvPr id="182" name="Скругленный прямоугольник 15"/>
            <p:cNvSpPr/>
            <p:nvPr/>
          </p:nvSpPr>
          <p:spPr>
            <a:xfrm>
              <a:off x="6300720" y="3903840"/>
              <a:ext cx="2590920" cy="471240"/>
            </a:xfrm>
            <a:prstGeom prst="roundRect">
              <a:avLst>
                <a:gd name="adj" fmla="val 16667"/>
              </a:avLst>
            </a:prstGeom>
            <a:solidFill>
              <a:srgbClr val="558ed5">
                <a:alpha val="90000"/>
              </a:srgbClr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Скругленный прямоугольник 14"/>
            <p:cNvSpPr/>
            <p:nvPr/>
          </p:nvSpPr>
          <p:spPr>
            <a:xfrm>
              <a:off x="6324480" y="3925800"/>
              <a:ext cx="25434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Calibri"/>
                </a:rPr>
                <a:t>ОЖСБ жаңалықтары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-20520"/>
            <a:ext cx="9158400" cy="117792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14400" y="123840"/>
            <a:ext cx="915840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Ұлттық тестілеу орталығы әлеуметтік желілерд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Схема 1" descr=""/>
          <p:cNvPicPr/>
          <p:nvPr/>
        </p:nvPicPr>
        <p:blipFill>
          <a:blip r:embed="rId2"/>
          <a:stretch/>
        </p:blipFill>
        <p:spPr>
          <a:xfrm>
            <a:off x="176040" y="1298520"/>
            <a:ext cx="4322880" cy="2998800"/>
          </a:xfrm>
          <a:prstGeom prst="rect">
            <a:avLst/>
          </a:prstGeom>
          <a:ln w="0">
            <a:noFill/>
          </a:ln>
        </p:spPr>
      </p:pic>
      <p:sp>
        <p:nvSpPr>
          <p:cNvPr id="187" name="Скругленный прямоугольник 3"/>
          <p:cNvSpPr/>
          <p:nvPr/>
        </p:nvSpPr>
        <p:spPr>
          <a:xfrm>
            <a:off x="4500720" y="1419120"/>
            <a:ext cx="4464000" cy="3168720"/>
          </a:xfrm>
          <a:prstGeom prst="roundRect">
            <a:avLst>
              <a:gd name="adj" fmla="val 16667"/>
            </a:avLst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4040" indent="-284040">
              <a:buClr>
                <a:srgbClr val="1737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Оқырмандар ОЖСБ-ны ұйымдастыру және өткізу бойынша барлық сұрақтарға жауаптарды таба алад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040" indent="-284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040" indent="-284040">
              <a:buClr>
                <a:srgbClr val="1737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Бұл ақпарат көздері оқу материалдары туралы және тестілеуге дайындық әдістері туралы ақпараттарды беред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Заголовок 1" descr=""/>
          <p:cNvPicPr/>
          <p:nvPr/>
        </p:nvPicPr>
        <p:blipFill>
          <a:blip r:embed="rId3"/>
          <a:stretch/>
        </p:blipFill>
        <p:spPr>
          <a:xfrm>
            <a:off x="139680" y="4309920"/>
            <a:ext cx="9004320" cy="8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4680" y="14400"/>
            <a:ext cx="9139320" cy="1174680"/>
          </a:xfrm>
          <a:prstGeom prst="rect">
            <a:avLst/>
          </a:prstGeom>
          <a:ln w="0">
            <a:noFill/>
          </a:ln>
        </p:spPr>
      </p:pic>
      <p:pic>
        <p:nvPicPr>
          <p:cNvPr id="101" name="Схема 2" descr=""/>
          <p:cNvPicPr/>
          <p:nvPr/>
        </p:nvPicPr>
        <p:blipFill>
          <a:blip r:embed="rId2"/>
          <a:stretch/>
        </p:blipFill>
        <p:spPr>
          <a:xfrm>
            <a:off x="-6480" y="1596960"/>
            <a:ext cx="9144000" cy="353556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3"/>
          <p:cNvSpPr/>
          <p:nvPr/>
        </p:nvSpPr>
        <p:spPr>
          <a:xfrm>
            <a:off x="3851280" y="1708200"/>
            <a:ext cx="381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Calibri"/>
              </a:rPr>
              <a:t>ВОУД өткізіледі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оугольник 4"/>
          <p:cNvSpPr/>
          <p:nvPr/>
        </p:nvSpPr>
        <p:spPr>
          <a:xfrm>
            <a:off x="-7920" y="915840"/>
            <a:ext cx="9144000" cy="69084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2007 жылғы 27 шілде № 319-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III</a:t>
            </a:r>
            <a:r>
              <a:rPr b="0" lang="kk-KZ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ҚР «Білім туралы» Заңының 55 бабына өзгертулер енгізілді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(13.11.2015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№ 398-V</a:t>
            </a:r>
            <a:r>
              <a:rPr b="0" lang="kk-KZ" sz="16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90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600" spc="-1" strike="noStrike">
                <a:solidFill>
                  <a:srgbClr val="000000"/>
                </a:solidFill>
                <a:latin typeface="Calibri"/>
              </a:rPr>
              <a:t>2017 жылғы Оқу жетістіктерін сырттай бағалау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ОЖСБ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-20520"/>
            <a:ext cx="9158400" cy="1177920"/>
          </a:xfrm>
          <a:prstGeom prst="rect">
            <a:avLst/>
          </a:prstGeom>
          <a:ln w="0">
            <a:noFill/>
          </a:ln>
        </p:spPr>
      </p:pic>
      <p:sp>
        <p:nvSpPr>
          <p:cNvPr id="106" name="Заголовок 1"/>
          <p:cNvSpPr/>
          <p:nvPr/>
        </p:nvSpPr>
        <p:spPr>
          <a:xfrm>
            <a:off x="108000" y="123840"/>
            <a:ext cx="885672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ОЖСБ-ны өткіз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оугольник 10"/>
          <p:cNvSpPr/>
          <p:nvPr/>
        </p:nvSpPr>
        <p:spPr>
          <a:xfrm>
            <a:off x="-7920" y="1177920"/>
            <a:ext cx="4572000" cy="582480"/>
          </a:xfrm>
          <a:prstGeom prst="rect">
            <a:avLst/>
          </a:prstGeom>
          <a:solidFill>
            <a:srgbClr val="95b3d7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ОБ ОЖСБ қайда өткізіледі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13"/>
          <p:cNvSpPr/>
          <p:nvPr/>
        </p:nvSpPr>
        <p:spPr>
          <a:xfrm>
            <a:off x="4589640" y="1177920"/>
            <a:ext cx="4572000" cy="582480"/>
          </a:xfrm>
          <a:prstGeom prst="rect">
            <a:avLst/>
          </a:prstGeom>
          <a:solidFill>
            <a:srgbClr val="95b3d7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Білім беру ұйымдары қалай анықталады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" name="Группа 21"/>
          <p:cNvGrpSpPr/>
          <p:nvPr/>
        </p:nvGrpSpPr>
        <p:grpSpPr>
          <a:xfrm>
            <a:off x="4896000" y="1852560"/>
            <a:ext cx="4248000" cy="3167280"/>
            <a:chOff x="4896000" y="1852560"/>
            <a:chExt cx="4248000" cy="3167280"/>
          </a:xfrm>
        </p:grpSpPr>
        <p:sp>
          <p:nvSpPr>
            <p:cNvPr id="110" name="Прямоугольник 15"/>
            <p:cNvSpPr/>
            <p:nvPr/>
          </p:nvSpPr>
          <p:spPr>
            <a:xfrm>
              <a:off x="5543640" y="1852560"/>
              <a:ext cx="2527200" cy="20163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Прямоугольник 17"/>
            <p:cNvSpPr/>
            <p:nvPr/>
          </p:nvSpPr>
          <p:spPr>
            <a:xfrm>
              <a:off x="4896000" y="3921120"/>
              <a:ext cx="4248000" cy="10987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Жыл сайын Білім саласындағы уәкілетті органмен анықталады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Группа 16"/>
          <p:cNvGrpSpPr/>
          <p:nvPr/>
        </p:nvGrpSpPr>
        <p:grpSpPr>
          <a:xfrm>
            <a:off x="119160" y="1849320"/>
            <a:ext cx="4165560" cy="3170520"/>
            <a:chOff x="119160" y="1849320"/>
            <a:chExt cx="4165560" cy="3170520"/>
          </a:xfrm>
        </p:grpSpPr>
        <p:sp>
          <p:nvSpPr>
            <p:cNvPr id="113" name="Прямоугольник 11"/>
            <p:cNvSpPr/>
            <p:nvPr/>
          </p:nvSpPr>
          <p:spPr>
            <a:xfrm>
              <a:off x="119160" y="3927600"/>
              <a:ext cx="4165560" cy="109224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000000"/>
                  </a:solidFill>
                  <a:latin typeface="Calibri"/>
                </a:rPr>
                <a:t>ОЖСБ  білім алушылар білім алып жатқан білім беру ұйымдарының базасында өткізіледі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4" name="Группа 12"/>
            <p:cNvGrpSpPr/>
            <p:nvPr/>
          </p:nvGrpSpPr>
          <p:grpSpPr>
            <a:xfrm>
              <a:off x="1025640" y="1849320"/>
              <a:ext cx="2546280" cy="1986120"/>
              <a:chOff x="1025640" y="1849320"/>
              <a:chExt cx="2546280" cy="1986120"/>
            </a:xfrm>
          </p:grpSpPr>
          <p:sp>
            <p:nvSpPr>
              <p:cNvPr id="115" name="Прямоугольник 14"/>
              <p:cNvSpPr/>
              <p:nvPr/>
            </p:nvSpPr>
            <p:spPr>
              <a:xfrm>
                <a:off x="1025640" y="1849320"/>
                <a:ext cx="2546280" cy="1986120"/>
              </a:xfrm>
              <a:prstGeom prst="rect">
                <a:avLst/>
              </a:prstGeom>
              <a:blipFill rotWithShape="0">
                <a:blip r:embed="rId3"/>
                <a:srcRect/>
                <a:stretch/>
              </a:blip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16" name="Группа 18"/>
              <p:cNvGrpSpPr/>
              <p:nvPr/>
            </p:nvGrpSpPr>
            <p:grpSpPr>
              <a:xfrm>
                <a:off x="1781280" y="2303280"/>
                <a:ext cx="1220400" cy="406440"/>
                <a:chOff x="1781280" y="2303280"/>
                <a:chExt cx="1220400" cy="406440"/>
              </a:xfrm>
            </p:grpSpPr>
            <p:sp>
              <p:nvSpPr>
                <p:cNvPr id="117" name="Прямоугольник 19"/>
                <p:cNvSpPr/>
                <p:nvPr/>
              </p:nvSpPr>
              <p:spPr>
                <a:xfrm>
                  <a:off x="1881000" y="2303280"/>
                  <a:ext cx="1120680" cy="40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8" name="Прямоугольник 20"/>
                <p:cNvSpPr/>
                <p:nvPr/>
              </p:nvSpPr>
              <p:spPr>
                <a:xfrm>
                  <a:off x="1781280" y="2331720"/>
                  <a:ext cx="1035000" cy="28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03040" rIns="203040" tIns="76320" bIns="76320" anchor="ctr">
                  <a:noAutofit/>
                </a:bodyPr>
                <a:p>
                  <a:pPr>
                    <a:lnSpc>
                      <a:spcPct val="90000"/>
                    </a:lnSpc>
                    <a:spcAft>
                      <a:spcPts val="612"/>
                    </a:spcAft>
                    <a:tabLst>
                      <a:tab algn="l" pos="0"/>
                      <a:tab algn="l" pos="888840"/>
                      <a:tab algn="l" pos="1778040"/>
                      <a:tab algn="l" pos="2666880"/>
                      <a:tab algn="l" pos="3556080"/>
                      <a:tab algn="l" pos="4444920"/>
                      <a:tab algn="l" pos="5334120"/>
                      <a:tab algn="l" pos="6222960"/>
                      <a:tab algn="l" pos="7112160"/>
                      <a:tab algn="l" pos="8001000"/>
                      <a:tab algn="l" pos="8889840"/>
                      <a:tab algn="l" pos="9779040"/>
                      <a:tab algn="l" pos="1066788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Calibri"/>
                    </a:rPr>
                    <a:t>                    </a:t>
                  </a:r>
                  <a:r>
                    <a:rPr b="1" lang="ru-RU" sz="1400" spc="-1" strike="noStrike">
                      <a:solidFill>
                        <a:srgbClr val="ff0000"/>
                      </a:solidFill>
                      <a:latin typeface="Calibri"/>
                    </a:rPr>
                    <a:t>Мектеп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-20520"/>
            <a:ext cx="9158400" cy="1177920"/>
          </a:xfrm>
          <a:prstGeom prst="rect">
            <a:avLst/>
          </a:prstGeom>
          <a:ln w="0">
            <a:noFill/>
          </a:ln>
        </p:spPr>
      </p:pic>
      <p:sp>
        <p:nvSpPr>
          <p:cNvPr id="121" name="Заголовок 1"/>
          <p:cNvSpPr/>
          <p:nvPr/>
        </p:nvSpPr>
        <p:spPr>
          <a:xfrm>
            <a:off x="108000" y="123840"/>
            <a:ext cx="885672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ffff"/>
                </a:solidFill>
                <a:latin typeface="Calibri"/>
              </a:rPr>
              <a:t>ОЖСБ-ға қатысатын мектептердің іріктелу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Схема 6" descr=""/>
          <p:cNvPicPr/>
          <p:nvPr/>
        </p:nvPicPr>
        <p:blipFill>
          <a:blip r:embed="rId2"/>
          <a:stretch/>
        </p:blipFill>
        <p:spPr>
          <a:xfrm>
            <a:off x="-12600" y="1238400"/>
            <a:ext cx="915660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-20520"/>
            <a:ext cx="9158400" cy="117792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4"/>
          <p:cNvSpPr/>
          <p:nvPr/>
        </p:nvSpPr>
        <p:spPr>
          <a:xfrm>
            <a:off x="179280" y="60480"/>
            <a:ext cx="87138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Пәндер мен тест тапсырмалар саны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тестілеу уақы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Схема 5" descr=""/>
          <p:cNvPicPr/>
          <p:nvPr/>
        </p:nvPicPr>
        <p:blipFill>
          <a:blip r:embed="rId2"/>
          <a:stretch/>
        </p:blipFill>
        <p:spPr>
          <a:xfrm>
            <a:off x="0" y="1079640"/>
            <a:ext cx="91440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0"/>
            <a:ext cx="9158400" cy="11779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39560" y="997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kk-KZ" sz="2800" spc="-1" strike="noStrike">
                <a:solidFill>
                  <a:srgbClr val="ffffff"/>
                </a:solidFill>
                <a:latin typeface="Calibri"/>
              </a:rPr>
              <a:t>4 сынып тест спецификациясы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Объект 6"/>
          <p:cNvSpPr/>
          <p:nvPr/>
        </p:nvSpPr>
        <p:spPr>
          <a:xfrm>
            <a:off x="-14400" y="776160"/>
            <a:ext cx="9139320" cy="37800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ffffff"/>
                </a:solidFill>
                <a:latin typeface="Calibri"/>
              </a:rPr>
              <a:t>Тест бастауыш білім беретін оқу бағдарламаларына сәйкес оқу материалдарын қамтиды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3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-1440" y="1519200"/>
            <a:ext cx="4255920" cy="2735280"/>
          </a:xfrm>
          <a:prstGeom prst="rect">
            <a:avLst/>
          </a:prstGeom>
          <a:solidFill>
            <a:srgbClr val="b9cde5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Calibri"/>
              </a:rPr>
              <a:t>Берілген 4 жауап нұсқасынан бір дұрыс жауапты таңдайтын тапсырмала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ұрыс орындалған әр тапсырма үшін - 1 бал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Calibri"/>
              </a:rPr>
              <a:t>Максималды балл – 15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62360" y="1492200"/>
            <a:ext cx="4462560" cy="2735280"/>
          </a:xfrm>
          <a:prstGeom prst="rect">
            <a:avLst/>
          </a:prstGeom>
          <a:solidFill>
            <a:srgbClr val="b9cde5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Calibri"/>
              </a:rPr>
              <a:t>Берілген 4 жауап нұсқасынан бір дұрыс жауапты таңдайтын тапсырмала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ұрыс орындалған әр тапсырма үшін - 1 бал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 мәтін, әрбір мәтін 3 тест тапсырмадан тұрад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Calibri"/>
              </a:rPr>
              <a:t>Максималды балл  - 15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4"/>
          <p:cNvSpPr/>
          <p:nvPr/>
        </p:nvSpPr>
        <p:spPr>
          <a:xfrm>
            <a:off x="393840" y="1193760"/>
            <a:ext cx="141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атемат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10"/>
          <p:cNvSpPr/>
          <p:nvPr/>
        </p:nvSpPr>
        <p:spPr>
          <a:xfrm>
            <a:off x="4892400" y="1150920"/>
            <a:ext cx="16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Әдебиеттік оқ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9"/>
          <p:cNvSpPr/>
          <p:nvPr/>
        </p:nvSpPr>
        <p:spPr>
          <a:xfrm>
            <a:off x="2298600" y="4371840"/>
            <a:ext cx="422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ff0000"/>
                </a:solidFill>
                <a:latin typeface="Calibri"/>
              </a:rPr>
              <a:t>Екі пән бойынша максималды балл – 30 бал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0"/>
            <a:ext cx="9158400" cy="11779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04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kk-KZ" sz="2800" spc="-1" strike="noStrike">
                <a:solidFill>
                  <a:srgbClr val="ffffff"/>
                </a:solidFill>
                <a:latin typeface="Calibri"/>
              </a:rPr>
              <a:t>9 сынып тест спецификациясы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Объект 6"/>
          <p:cNvSpPr/>
          <p:nvPr/>
        </p:nvSpPr>
        <p:spPr>
          <a:xfrm>
            <a:off x="0" y="811080"/>
            <a:ext cx="9132840" cy="39852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ffffff"/>
                </a:solidFill>
                <a:latin typeface="Calibri"/>
              </a:rPr>
              <a:t>Тест жалпы білім беретін оқу бағдарламаларына сәйкес оқу материалдарын қамтиды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-14400" y="1636560"/>
            <a:ext cx="2887920" cy="3238560"/>
          </a:xfrm>
          <a:prstGeom prst="rect">
            <a:avLst/>
          </a:prstGeom>
          <a:solidFill>
            <a:srgbClr val="b9cde5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Calibri"/>
              </a:rPr>
              <a:t>Берілген 5 жауап нұсқасынан бір дұрыс жауапты таңдайтын тапсырмала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ұрыс орындалған әр тапсырма үшін  - 1 бал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Calibri"/>
              </a:rPr>
              <a:t>Максималды балл – 2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873160" y="1636560"/>
            <a:ext cx="6259320" cy="3238560"/>
          </a:xfrm>
          <a:prstGeom prst="rect">
            <a:avLst/>
          </a:prstGeom>
          <a:solidFill>
            <a:srgbClr val="b9cde5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000000"/>
                </a:solidFill>
                <a:latin typeface="Calibri"/>
              </a:rPr>
              <a:t>Дүниежүзі тарихы, Қазақстан тарихы</a:t>
            </a:r>
            <a:r>
              <a:rPr b="0" lang="kk-KZ" sz="16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kk-KZ" sz="1600" spc="-1" strike="noStrike">
                <a:solidFill>
                  <a:srgbClr val="000000"/>
                </a:solidFill>
                <a:latin typeface="Calibri"/>
              </a:rPr>
              <a:t> Биология</a:t>
            </a:r>
            <a:r>
              <a:rPr b="0" lang="kk-KZ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kk-KZ" sz="1600" spc="-1" strike="noStrike">
                <a:solidFill>
                  <a:srgbClr val="000000"/>
                </a:solidFill>
                <a:latin typeface="Calibri"/>
              </a:rPr>
              <a:t>География</a:t>
            </a:r>
            <a:r>
              <a:rPr b="0" lang="kk-KZ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kk-KZ" sz="1600" spc="-1" strike="noStrike">
                <a:solidFill>
                  <a:srgbClr val="000000"/>
                </a:solidFill>
                <a:latin typeface="Calibri"/>
              </a:rPr>
              <a:t>Алгебра</a:t>
            </a:r>
            <a:r>
              <a:rPr b="0" lang="kk-KZ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kk-KZ" sz="1600" spc="-1" strike="noStrike">
                <a:solidFill>
                  <a:srgbClr val="000000"/>
                </a:solidFill>
                <a:latin typeface="Calibri"/>
              </a:rPr>
              <a:t>Химия, Физика, Информати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Calibri"/>
              </a:rPr>
              <a:t>Берілген 5 жауап нұсқасынан бір дұрыс жауапты - 25 тапсырма,                 бір немесе бірнеше дұрыс жауапты - 15 тапсырм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Calibri"/>
              </a:rPr>
              <a:t>Дұрыс орындалған бір дұрыс жауапты тест тапсырмасы үшін - 1 балл, дұрыс орындалмаған тапсырма үшін – 0 балл беріледі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Calibri"/>
              </a:rPr>
              <a:t>Дұрыс орындалған бір немесе бірнеше дұрыс жауапты тест тапсырмасы үшін - 2 балл, бір қате үшін – 1 балл, екі және одан да көп қате үшін – 0 балл беріледі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Calibri"/>
              </a:rPr>
              <a:t>Максималды балл – 5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4"/>
          <p:cNvSpPr/>
          <p:nvPr/>
        </p:nvSpPr>
        <p:spPr>
          <a:xfrm>
            <a:off x="258120" y="1319040"/>
            <a:ext cx="110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Calibri"/>
              </a:rPr>
              <a:t>Қазақ тіл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10"/>
          <p:cNvSpPr/>
          <p:nvPr/>
        </p:nvSpPr>
        <p:spPr>
          <a:xfrm>
            <a:off x="3146400" y="1305000"/>
            <a:ext cx="296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Calibri"/>
              </a:rPr>
              <a:t>Жалпы білім беретін пәнде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9"/>
          <p:cNvSpPr/>
          <p:nvPr/>
        </p:nvSpPr>
        <p:spPr>
          <a:xfrm>
            <a:off x="1973160" y="4821120"/>
            <a:ext cx="518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ff0000"/>
                </a:solidFill>
                <a:latin typeface="Calibri"/>
              </a:rPr>
              <a:t>Екі пән бойынша максималды балл – 75 бал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32840" cy="85716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ff"/>
                </a:solidFill>
                <a:latin typeface="Calibri"/>
              </a:rPr>
              <a:t>11 сынып тест спецификациясы</a:t>
            </a: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-360" y="1161720"/>
            <a:ext cx="3203640" cy="492120"/>
          </a:xfrm>
          <a:prstGeom prst="rect">
            <a:avLst/>
          </a:prstGeom>
          <a:solidFill>
            <a:srgbClr val="c6d9f1"/>
          </a:solidFill>
          <a:ln w="28440">
            <a:solidFill>
              <a:srgbClr val="d9d9d9"/>
            </a:solidFill>
            <a:miter/>
          </a:ln>
        </p:spPr>
        <p:txBody>
          <a:bodyPr anchor="b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Оқу сауаттылығ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-360" y="1665000"/>
            <a:ext cx="3203640" cy="2778120"/>
          </a:xfrm>
          <a:prstGeom prst="rect">
            <a:avLst/>
          </a:prstGeom>
          <a:solidFill>
            <a:srgbClr val="c6d9f1"/>
          </a:solidFill>
          <a:ln w="9360">
            <a:solidFill>
              <a:srgbClr val="d9d9d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Calibri"/>
              </a:rPr>
              <a:t>4 мәтін бойынша берілген 5 жауап нұсқасынан бір дұрыс жауабы бар тапсырмалар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ұрыс орындалған әр тапсырма үшін  - 1 бал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аксималды балл - 2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03280" y="1150560"/>
            <a:ext cx="3097080" cy="492120"/>
          </a:xfrm>
          <a:prstGeom prst="rect">
            <a:avLst/>
          </a:prstGeom>
          <a:solidFill>
            <a:srgbClr val="c6d9f1"/>
          </a:solidFill>
          <a:ln w="28440">
            <a:solidFill>
              <a:srgbClr val="d9d9d9"/>
            </a:solidFill>
            <a:miter/>
          </a:ln>
        </p:spPr>
        <p:txBody>
          <a:bodyPr anchor="b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Математикалық сауаттылы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203280" y="1665000"/>
            <a:ext cx="3097080" cy="2778120"/>
          </a:xfrm>
          <a:prstGeom prst="rect">
            <a:avLst/>
          </a:prstGeom>
          <a:solidFill>
            <a:srgbClr val="b9cde5"/>
          </a:solidFill>
          <a:ln w="9360">
            <a:solidFill>
              <a:srgbClr val="d9d9d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Calibri"/>
              </a:rPr>
              <a:t>Берілген 5 жауап нұсқасынан бір дұрыс жауабы бар тапсырмалар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ұрыс орындалған әр тапсырма үшін  - 1 бал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аксималды балл - 2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Прямоугольник 7"/>
          <p:cNvSpPr/>
          <p:nvPr/>
        </p:nvSpPr>
        <p:spPr>
          <a:xfrm>
            <a:off x="6300720" y="1655640"/>
            <a:ext cx="2832120" cy="2787840"/>
          </a:xfrm>
          <a:prstGeom prst="rect">
            <a:avLst/>
          </a:prstGeom>
          <a:solidFill>
            <a:srgbClr val="b9cde5"/>
          </a:solidFill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Calibri"/>
              </a:rPr>
              <a:t>Берілген 5 жауап нұсқасынан бір дұрыс жауабы бар тапсырмалар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ұрыс орындалған әр тапсырма үшін  - 1 бал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аксимальный балл - 2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Прямоугольник 8"/>
          <p:cNvSpPr/>
          <p:nvPr/>
        </p:nvSpPr>
        <p:spPr>
          <a:xfrm>
            <a:off x="0" y="4464000"/>
            <a:ext cx="9132840" cy="48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Үш пән бойынша максималды балл – 60 бал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Текст 4"/>
          <p:cNvSpPr/>
          <p:nvPr/>
        </p:nvSpPr>
        <p:spPr>
          <a:xfrm>
            <a:off x="6300720" y="1150920"/>
            <a:ext cx="2832120" cy="493560"/>
          </a:xfrm>
          <a:prstGeom prst="rect">
            <a:avLst/>
          </a:prstGeom>
          <a:solidFill>
            <a:srgbClr val="c6d9f1"/>
          </a:solidFill>
          <a:ln w="284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Қазақстан тарих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Объект 6"/>
          <p:cNvSpPr/>
          <p:nvPr/>
        </p:nvSpPr>
        <p:spPr>
          <a:xfrm>
            <a:off x="0" y="765000"/>
            <a:ext cx="9132840" cy="39852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ffffff"/>
                </a:solidFill>
                <a:latin typeface="Calibri"/>
              </a:rPr>
              <a:t>Тест жалпы білім беретін оқу бағдарламаларына сәйкес оқу материалдарын қамтиды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-20520"/>
            <a:ext cx="9158400" cy="1177920"/>
          </a:xfrm>
          <a:prstGeom prst="rect">
            <a:avLst/>
          </a:prstGeom>
          <a:ln w="0">
            <a:noFill/>
          </a:ln>
        </p:spPr>
      </p:pic>
      <p:sp>
        <p:nvSpPr>
          <p:cNvPr id="152" name="Заголовок 1"/>
          <p:cNvSpPr/>
          <p:nvPr/>
        </p:nvSpPr>
        <p:spPr>
          <a:xfrm>
            <a:off x="826920" y="333360"/>
            <a:ext cx="77774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ffff"/>
                </a:solidFill>
                <a:latin typeface="Calibri"/>
              </a:rPr>
              <a:t>ОЖСБ-ға дайындық материалдар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кругленный прямоугольник 2"/>
          <p:cNvSpPr/>
          <p:nvPr/>
        </p:nvSpPr>
        <p:spPr>
          <a:xfrm>
            <a:off x="108000" y="1157400"/>
            <a:ext cx="8928000" cy="439560"/>
          </a:xfrm>
          <a:prstGeom prst="roundRect">
            <a:avLst>
              <a:gd name="adj" fmla="val 0"/>
            </a:avLst>
          </a:prstGeom>
          <a:solidFill>
            <a:srgbClr val="ebf1de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000000"/>
                </a:solidFill>
                <a:latin typeface="Calibri"/>
              </a:rPr>
              <a:t>ҰТО сайтында тест тапсырмаларының үлгі нұсқалары жарияланға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Скругленный прямоугольник 6"/>
          <p:cNvSpPr/>
          <p:nvPr/>
        </p:nvSpPr>
        <p:spPr>
          <a:xfrm>
            <a:off x="108000" y="1635120"/>
            <a:ext cx="8928000" cy="665280"/>
          </a:xfrm>
          <a:prstGeom prst="roundRect">
            <a:avLst>
              <a:gd name="adj" fmla="val 0"/>
            </a:avLst>
          </a:prstGeom>
          <a:solidFill>
            <a:srgbClr val="f2dcd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000000"/>
                </a:solidFill>
                <a:latin typeface="Calibri"/>
              </a:rPr>
              <a:t>Ұлттық тестілеу орталығымен ОЖСБ байқау сынағы сұрақ-кітапшалары жән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000000"/>
                </a:solidFill>
                <a:latin typeface="Calibri"/>
              </a:rPr>
              <a:t>Оқу-әдістемелік құралдары шығарылад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Рисунок 3" descr=""/>
          <p:cNvPicPr/>
          <p:nvPr/>
        </p:nvPicPr>
        <p:blipFill>
          <a:blip r:embed="rId2"/>
          <a:stretch/>
        </p:blipFill>
        <p:spPr>
          <a:xfrm>
            <a:off x="6531120" y="2328840"/>
            <a:ext cx="2043000" cy="2743200"/>
          </a:xfrm>
          <a:prstGeom prst="rect">
            <a:avLst/>
          </a:prstGeom>
          <a:ln w="9360">
            <a:solidFill>
              <a:srgbClr val="8eb4e3"/>
            </a:solidFill>
            <a:miter/>
          </a:ln>
        </p:spPr>
      </p:pic>
      <p:pic>
        <p:nvPicPr>
          <p:cNvPr id="156" name="Рисунок 4" descr=""/>
          <p:cNvPicPr/>
          <p:nvPr/>
        </p:nvPicPr>
        <p:blipFill>
          <a:blip r:embed="rId3"/>
          <a:stretch/>
        </p:blipFill>
        <p:spPr>
          <a:xfrm>
            <a:off x="3897360" y="2338560"/>
            <a:ext cx="2122560" cy="2743200"/>
          </a:xfrm>
          <a:prstGeom prst="rect">
            <a:avLst/>
          </a:prstGeom>
          <a:ln w="9360">
            <a:solidFill>
              <a:srgbClr val="8eb4e3"/>
            </a:solidFill>
            <a:miter/>
          </a:ln>
        </p:spPr>
      </p:pic>
      <p:pic>
        <p:nvPicPr>
          <p:cNvPr id="157" name="Рисунок 7" descr=""/>
          <p:cNvPicPr/>
          <p:nvPr/>
        </p:nvPicPr>
        <p:blipFill>
          <a:blip r:embed="rId4"/>
          <a:stretch/>
        </p:blipFill>
        <p:spPr>
          <a:xfrm>
            <a:off x="108000" y="2335320"/>
            <a:ext cx="33116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5T06:09:31Z</dcterms:created>
  <dc:creator>PR</dc:creator>
  <dc:description/>
  <dc:language>en-US</dc:language>
  <cp:lastModifiedBy>Жумаханова Гульнур</cp:lastModifiedBy>
  <cp:lastPrinted>2016-01-19T05:15:24Z</cp:lastPrinted>
  <dcterms:modified xsi:type="dcterms:W3CDTF">2017-03-17T05:40:32Z</dcterms:modified>
  <cp:revision>657</cp:revision>
  <dc:subject/>
  <dc:title>Презентация PowerPoint</dc:title>
</cp:coreProperties>
</file>