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00" y="745920"/>
            <a:ext cx="66229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0300-74CE-4528-9E3C-4154126E5A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61C1-3309-4C4E-8F45-D7124A304A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AD98-67D2-4C9F-A2E5-496F3E96F2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D8D9-4E10-4FB3-8255-7607DA20F4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6FA0-70DC-4333-B954-9235AA00FC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5CBA-FA1A-4214-8F15-43F377856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C492-43F9-44E5-B9B2-25C5CC63F0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DE2E-A92C-4852-BDBF-24C0CF9984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5771-05C6-451E-AF53-48B10F1DFD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F03-606E-45FB-9484-1B10B668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C8B-C133-44A1-928C-CC745BCF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756-9C3C-4C0C-ADF5-EA807FEF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C57-6B07-43B8-AE6C-EB43ACD1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9847-ED74-4B42-88B1-78E67E74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097A-33D1-4839-B6B9-CF4C6303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0116-0776-4D7D-A039-FC3DB0D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5811-FB51-4B21-A139-8AFFB50A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08A0-D2DC-47C5-8422-4B6DCA54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73D4-1AAF-44F4-B8FF-9E74AB3A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4427-62CF-44E5-8EC5-D436EEFC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DE1-49C8-4E54-B74F-2139B910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C5DE-BB40-4010-A774-CC7949AB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567B-343B-4CB8-A497-2EB9B1B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4350-9529-4A68-BD2A-0C9023BB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FD42-9E2A-4210-A108-00D4E86B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25AC-50B4-41FC-8785-3D39E26F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383-CE3C-4C9E-824D-8887D820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F7B-823C-4175-82DA-1525274C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359-4DB3-4AF5-9CDD-243A786D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F2B-A04E-48EB-93DD-4011D395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842-CF54-460A-9D37-903058D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52A-3F1B-46CB-8F5F-B5C67A5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EA4-982F-492D-B950-287E1FD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7E91-AD0A-46F0-98B1-BB89792AC0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38D7-85FA-4512-8353-7A78AA6F7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rtc_prezent_png\rtc_shapka.png"/>
          <p:cNvPicPr/>
          <p:nvPr/>
        </p:nvPicPr>
        <p:blipFill>
          <a:blip r:embed="rId2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800" y="1563840"/>
            <a:ext cx="899964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рганизация и проведения внешней оценки учебных достижений в организациях общего среднего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2050920" y="171360"/>
            <a:ext cx="669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 для организации информационно-разъяснительной работы по подготовке к проведению внешней оценки учебных достижений в организациях общего среднего образования в РК 201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3203640" y="4516560"/>
            <a:ext cx="21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стана -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484200" y="351000"/>
            <a:ext cx="83358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авила поведения учащихся в ходе тес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4920" y="1308240"/>
            <a:ext cx="9074160" cy="461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692360" y="1305000"/>
            <a:ext cx="575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ируемым не разреша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4920" y="1913040"/>
            <a:ext cx="9074160" cy="3170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аживаться с места на мес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ть без разреш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Министерст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К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тестир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ь обмен материалами тестирования с другими обучающимися и (или) их умышленное повреждение (порчу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калькулятором, справочной литературой (кроме таблицы Менделеева и таблицы растворимости солей), электронными записными книжками, корректирующими жидкостями и средствами мобильной связ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овариваться и списывать у других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ающих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ьзоваться шпаргалкой и другими справочными материалам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из аудитории без разреш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Министерства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К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50840" y="120240"/>
            <a:ext cx="73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нтернет-ресурсы и размещенные информации для участников ВОУ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хема 11" descr=""/>
          <p:cNvPicPr/>
          <p:nvPr/>
        </p:nvPicPr>
        <p:blipFill>
          <a:blip r:embed="rId2"/>
          <a:stretch/>
        </p:blipFill>
        <p:spPr>
          <a:xfrm>
            <a:off x="1974960" y="981000"/>
            <a:ext cx="432252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64" name="Группа 19"/>
          <p:cNvGrpSpPr/>
          <p:nvPr/>
        </p:nvGrpSpPr>
        <p:grpSpPr>
          <a:xfrm>
            <a:off x="179280" y="1995480"/>
            <a:ext cx="2016360" cy="2016000"/>
            <a:chOff x="179280" y="1995480"/>
            <a:chExt cx="2016360" cy="2016000"/>
          </a:xfrm>
        </p:grpSpPr>
        <p:pic>
          <p:nvPicPr>
            <p:cNvPr id="165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179280" y="1995480"/>
              <a:ext cx="2016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12" descr="Картинки по запросу картинки по теме интернет"/>
            <p:cNvPicPr/>
            <p:nvPr/>
          </p:nvPicPr>
          <p:blipFill>
            <a:blip r:embed="rId4"/>
            <a:stretch/>
          </p:blipFill>
          <p:spPr>
            <a:xfrm>
              <a:off x="276120" y="2080800"/>
              <a:ext cx="1822320" cy="18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Группа 8"/>
          <p:cNvGrpSpPr/>
          <p:nvPr/>
        </p:nvGrpSpPr>
        <p:grpSpPr>
          <a:xfrm>
            <a:off x="6372360" y="1708200"/>
            <a:ext cx="2590560" cy="471600"/>
            <a:chOff x="6372360" y="1708200"/>
            <a:chExt cx="2590560" cy="471600"/>
          </a:xfrm>
        </p:grpSpPr>
        <p:sp>
          <p:nvSpPr>
            <p:cNvPr id="168" name="Скругленный прямоугольник 24"/>
            <p:cNvSpPr/>
            <p:nvPr/>
          </p:nvSpPr>
          <p:spPr>
            <a:xfrm>
              <a:off x="6372360" y="170820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Скругленный прямоугольник 6"/>
            <p:cNvSpPr/>
            <p:nvPr/>
          </p:nvSpPr>
          <p:spPr>
            <a:xfrm>
              <a:off x="6396120" y="173016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рмативные правовые документ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Группа 9"/>
          <p:cNvGrpSpPr/>
          <p:nvPr/>
        </p:nvGrpSpPr>
        <p:grpSpPr>
          <a:xfrm>
            <a:off x="6372360" y="2238480"/>
            <a:ext cx="2590560" cy="471240"/>
            <a:chOff x="6372360" y="2238480"/>
            <a:chExt cx="2590560" cy="471240"/>
          </a:xfrm>
        </p:grpSpPr>
        <p:sp>
          <p:nvSpPr>
            <p:cNvPr id="171" name="Скругленный прямоугольник 22"/>
            <p:cNvSpPr/>
            <p:nvPr/>
          </p:nvSpPr>
          <p:spPr>
            <a:xfrm>
              <a:off x="6372360" y="2238480"/>
              <a:ext cx="259056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Скругленный прямоугольник 8"/>
            <p:cNvSpPr/>
            <p:nvPr/>
          </p:nvSpPr>
          <p:spPr>
            <a:xfrm>
              <a:off x="6396120" y="2260440"/>
              <a:ext cx="254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Правила проведения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Группа 10"/>
          <p:cNvGrpSpPr/>
          <p:nvPr/>
        </p:nvGrpSpPr>
        <p:grpSpPr>
          <a:xfrm>
            <a:off x="6391440" y="2747880"/>
            <a:ext cx="2590560" cy="471600"/>
            <a:chOff x="6391440" y="2747880"/>
            <a:chExt cx="2590560" cy="471600"/>
          </a:xfrm>
        </p:grpSpPr>
        <p:sp>
          <p:nvSpPr>
            <p:cNvPr id="174" name="Скругленный прямоугольник 20"/>
            <p:cNvSpPr/>
            <p:nvPr/>
          </p:nvSpPr>
          <p:spPr>
            <a:xfrm>
              <a:off x="6391440" y="274788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Скругленный прямоугольник 10"/>
            <p:cNvSpPr/>
            <p:nvPr/>
          </p:nvSpPr>
          <p:spPr>
            <a:xfrm>
              <a:off x="6415200" y="276984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Спецификация тест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Группа 13"/>
          <p:cNvGrpSpPr/>
          <p:nvPr/>
        </p:nvGrpSpPr>
        <p:grpSpPr>
          <a:xfrm>
            <a:off x="6372360" y="3300480"/>
            <a:ext cx="2590560" cy="471600"/>
            <a:chOff x="6372360" y="3300480"/>
            <a:chExt cx="2590560" cy="471600"/>
          </a:xfrm>
        </p:grpSpPr>
        <p:sp>
          <p:nvSpPr>
            <p:cNvPr id="177" name="Скругленный прямоугольник 17"/>
            <p:cNvSpPr/>
            <p:nvPr/>
          </p:nvSpPr>
          <p:spPr>
            <a:xfrm>
              <a:off x="6372360" y="330048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Скругленный прямоугольник 12"/>
            <p:cNvSpPr/>
            <p:nvPr/>
          </p:nvSpPr>
          <p:spPr>
            <a:xfrm>
              <a:off x="6396120" y="332244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Примерные варианты тестовых заданий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Группа 14"/>
          <p:cNvGrpSpPr/>
          <p:nvPr/>
        </p:nvGrpSpPr>
        <p:grpSpPr>
          <a:xfrm>
            <a:off x="6372360" y="3830760"/>
            <a:ext cx="2590560" cy="471240"/>
            <a:chOff x="6372360" y="3830760"/>
            <a:chExt cx="2590560" cy="471240"/>
          </a:xfrm>
        </p:grpSpPr>
        <p:sp>
          <p:nvSpPr>
            <p:cNvPr id="180" name="Скругленный прямоугольник 15"/>
            <p:cNvSpPr/>
            <p:nvPr/>
          </p:nvSpPr>
          <p:spPr>
            <a:xfrm>
              <a:off x="6372360" y="3830760"/>
              <a:ext cx="259056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Скругленный прямоугольник 14"/>
            <p:cNvSpPr/>
            <p:nvPr/>
          </p:nvSpPr>
          <p:spPr>
            <a:xfrm>
              <a:off x="6396120" y="3852720"/>
              <a:ext cx="254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вости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4400" y="123840"/>
            <a:ext cx="9158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оциальных сетях Национального центра тес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хема 1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4322880" cy="2998800"/>
          </a:xfrm>
          <a:prstGeom prst="rect">
            <a:avLst/>
          </a:prstGeom>
          <a:ln w="0">
            <a:noFill/>
          </a:ln>
        </p:spPr>
      </p:pic>
      <p:sp>
        <p:nvSpPr>
          <p:cNvPr id="185" name="Скругленный прямоугольник 3"/>
          <p:cNvSpPr/>
          <p:nvPr/>
        </p:nvSpPr>
        <p:spPr>
          <a:xfrm>
            <a:off x="4564080" y="1289160"/>
            <a:ext cx="4464000" cy="3168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Читатели могут найти ответы на все вопросы по организации и проведению ВОУД С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Данные источники информации будут предоставлять информацию об учебных материалах и способах подготовки к тестирова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138240" y="4309920"/>
            <a:ext cx="9005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Переход на социальную сеть можно легко осуществить нажатием кнопок на сайте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www.testcenter.k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1174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86840"/>
            <a:ext cx="9158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нешняя оценка учебных достижений (ВОУД) 2017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хема 2" descr=""/>
          <p:cNvPicPr/>
          <p:nvPr/>
        </p:nvPicPr>
        <p:blipFill>
          <a:blip r:embed="rId2"/>
          <a:stretch/>
        </p:blipFill>
        <p:spPr>
          <a:xfrm>
            <a:off x="0" y="1809720"/>
            <a:ext cx="9150480" cy="334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851280" y="19242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ВОУД провод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1189080"/>
            <a:ext cx="9144000" cy="5904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Закон РК «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б образова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» от 27 июля 2007 года № 319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в статью 55 внесены измен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(от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3.11.2015 № 398-V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рганизация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-792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де будет проводиться ВОУД С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458964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ак определяются организации образован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Группа 21"/>
          <p:cNvGrpSpPr/>
          <p:nvPr/>
        </p:nvGrpSpPr>
        <p:grpSpPr>
          <a:xfrm>
            <a:off x="4896000" y="1852560"/>
            <a:ext cx="4248000" cy="3167280"/>
            <a:chOff x="4896000" y="1852560"/>
            <a:chExt cx="4248000" cy="3167280"/>
          </a:xfrm>
        </p:grpSpPr>
        <p:sp>
          <p:nvSpPr>
            <p:cNvPr id="108" name="Прямоугольник 15"/>
            <p:cNvSpPr/>
            <p:nvPr/>
          </p:nvSpPr>
          <p:spPr>
            <a:xfrm>
              <a:off x="5543640" y="1852560"/>
              <a:ext cx="2527200" cy="2016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Прямоугольник 17"/>
            <p:cNvSpPr/>
            <p:nvPr/>
          </p:nvSpPr>
          <p:spPr>
            <a:xfrm>
              <a:off x="4896000" y="3921120"/>
              <a:ext cx="4248000" cy="10987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Ежегодно определяются уполномоченным органом в области образования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Группа 16"/>
          <p:cNvGrpSpPr/>
          <p:nvPr/>
        </p:nvGrpSpPr>
        <p:grpSpPr>
          <a:xfrm>
            <a:off x="119160" y="1849320"/>
            <a:ext cx="4165560" cy="3170520"/>
            <a:chOff x="119160" y="1849320"/>
            <a:chExt cx="4165560" cy="3170520"/>
          </a:xfrm>
        </p:grpSpPr>
        <p:sp>
          <p:nvSpPr>
            <p:cNvPr id="111" name="Прямоугольник 11"/>
            <p:cNvSpPr/>
            <p:nvPr/>
          </p:nvSpPr>
          <p:spPr>
            <a:xfrm>
              <a:off x="119160" y="3927600"/>
              <a:ext cx="4165560" cy="109224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ОУД проводится на базе организаций образования, в которых  обучаю</a:t>
              </a:r>
              <a:r>
                <a:rPr b="0" lang="kk-KZ" sz="1800" spc="-1" strike="noStrike">
                  <a:solidFill>
                    <a:srgbClr val="000000"/>
                  </a:solidFill>
                  <a:latin typeface="Calibri"/>
                </a:rPr>
                <a:t>тся тестируемы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" name="Группа 12"/>
            <p:cNvGrpSpPr/>
            <p:nvPr/>
          </p:nvGrpSpPr>
          <p:grpSpPr>
            <a:xfrm>
              <a:off x="1025640" y="1849320"/>
              <a:ext cx="2546280" cy="1986840"/>
              <a:chOff x="1025640" y="1849320"/>
              <a:chExt cx="2546280" cy="1986840"/>
            </a:xfrm>
          </p:grpSpPr>
          <p:sp>
            <p:nvSpPr>
              <p:cNvPr id="113" name="Прямоугольник 14"/>
              <p:cNvSpPr/>
              <p:nvPr/>
            </p:nvSpPr>
            <p:spPr>
              <a:xfrm>
                <a:off x="1025640" y="1849320"/>
                <a:ext cx="2546280" cy="1986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4" name="Группа 18"/>
              <p:cNvGrpSpPr/>
              <p:nvPr/>
            </p:nvGrpSpPr>
            <p:grpSpPr>
              <a:xfrm>
                <a:off x="1881360" y="2303280"/>
                <a:ext cx="1121400" cy="406800"/>
                <a:chOff x="1881360" y="2303280"/>
                <a:chExt cx="1121400" cy="406800"/>
              </a:xfrm>
            </p:grpSpPr>
            <p:sp>
              <p:nvSpPr>
                <p:cNvPr id="115" name="Прямоугольник 19"/>
                <p:cNvSpPr/>
                <p:nvPr/>
              </p:nvSpPr>
              <p:spPr>
                <a:xfrm>
                  <a:off x="1881360" y="2303280"/>
                  <a:ext cx="1121400" cy="4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Прямоугольник 20"/>
                <p:cNvSpPr/>
                <p:nvPr/>
              </p:nvSpPr>
              <p:spPr>
                <a:xfrm>
                  <a:off x="1881360" y="2303280"/>
                  <a:ext cx="1121400" cy="4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3040" rIns="203040" tIns="76320" bIns="7632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888840"/>
                      <a:tab algn="l" pos="1778040"/>
                      <a:tab algn="l" pos="2666880"/>
                      <a:tab algn="l" pos="3556080"/>
                      <a:tab algn="l" pos="4444920"/>
                      <a:tab algn="l" pos="5334120"/>
                      <a:tab algn="l" pos="6222960"/>
                      <a:tab algn="l" pos="7112160"/>
                      <a:tab algn="l" pos="8001000"/>
                      <a:tab algn="l" pos="8889840"/>
                      <a:tab algn="l" pos="977904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Calibri"/>
                    </a:rPr>
                    <a:t>Школа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Выборка школ, участвующих в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хема 6" descr=""/>
          <p:cNvPicPr/>
          <p:nvPr/>
        </p:nvPicPr>
        <p:blipFill>
          <a:blip r:embed="rId2"/>
          <a:stretch/>
        </p:blipFill>
        <p:spPr>
          <a:xfrm>
            <a:off x="-12600" y="1238400"/>
            <a:ext cx="91566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79280" y="6048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едметы и количество тестовых задан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ремя тестир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хема 5" descr=""/>
          <p:cNvPicPr/>
          <p:nvPr/>
        </p:nvPicPr>
        <p:blipFill>
          <a:blip r:embed="rId2"/>
          <a:stretch/>
        </p:blipFill>
        <p:spPr>
          <a:xfrm>
            <a:off x="-36360" y="1017720"/>
            <a:ext cx="91440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956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пецификация теста для </a:t>
            </a: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4 клас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бъект 6"/>
          <p:cNvSpPr/>
          <p:nvPr/>
        </p:nvSpPr>
        <p:spPr>
          <a:xfrm>
            <a:off x="-14400" y="776160"/>
            <a:ext cx="9139320" cy="37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В тест включены учебные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материалы в соответствии с учебной программой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1440" y="1519200"/>
            <a:ext cx="425592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а из 4 предложен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ьный балл –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62360" y="1492200"/>
            <a:ext cx="446256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а из 4 предложен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текста, каждый текст включает по 3 тестовых за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ьный балл  -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93840" y="1193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86760" y="11509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938960" y="437184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Максимальный балл по двум предметам – 30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пецификация теста для </a:t>
            </a: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9 клас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бъект 6"/>
          <p:cNvSpPr/>
          <p:nvPr/>
        </p:nvSpPr>
        <p:spPr>
          <a:xfrm>
            <a:off x="-7920" y="789120"/>
            <a:ext cx="9132840" cy="39816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В тест включены учебные материалы в соответствии с учебными программами для общеобразовательной школ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440" y="1491840"/>
            <a:ext cx="2887920" cy="322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а из 5 предложе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ьный балл – 2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16360" y="1491840"/>
            <a:ext cx="6208560" cy="322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Всемирная история, История Казахстана, Биология, География, Алгебра, Химия, Физика, Информа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Тест состоит из 25 заданий (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а из 5 предложенных) и 15 заданий (с одним или несколькими правильными ответами из множества предложенных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Задания с одним правильным ответом учащийся получает 1 балл, за неправильно выполненное задание – 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задания с одним или несколькими правильными ответами учащийся получает 2 балла, при допущении 1 ошибки – 1 балл, за 2 и более ошибок – 0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ьный балл  - 5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59200" y="119376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Казах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3145680" y="117936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Общеобразовательные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предм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1121400" y="471960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Максимальный балл по двум предметам – 75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2840" cy="85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ецификация теста для 11 </a:t>
            </a:r>
            <a:r>
              <a:rPr b="1" lang="kk-KZ" sz="3200" spc="-1" strike="noStrike">
                <a:solidFill>
                  <a:srgbClr val="ffffff"/>
                </a:solidFill>
                <a:latin typeface="Calibri"/>
              </a:rPr>
              <a:t>класса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161720"/>
            <a:ext cx="320364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Грамотность ч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1665000"/>
            <a:ext cx="3203640" cy="2778120"/>
          </a:xfrm>
          <a:prstGeom prst="rect">
            <a:avLst/>
          </a:prstGeom>
          <a:solidFill>
            <a:srgbClr val="c6d9f1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 к 4 текст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03280" y="1150560"/>
            <a:ext cx="309708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03280" y="1665000"/>
            <a:ext cx="3097080" cy="2778120"/>
          </a:xfrm>
          <a:prstGeom prst="rect">
            <a:avLst/>
          </a:prstGeom>
          <a:solidFill>
            <a:srgbClr val="b9cde5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6300720" y="1663560"/>
            <a:ext cx="2832120" cy="2952720"/>
          </a:xfrm>
          <a:prstGeom prst="rect">
            <a:avLst/>
          </a:prstGeom>
          <a:solidFill>
            <a:srgbClr val="b9cde5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0" y="4464000"/>
            <a:ext cx="913284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аксимальный балл по трем предметам – 6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Текст 4"/>
          <p:cNvSpPr/>
          <p:nvPr/>
        </p:nvSpPr>
        <p:spPr>
          <a:xfrm>
            <a:off x="6300720" y="1150920"/>
            <a:ext cx="2832120" cy="49356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стория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бъект 6"/>
          <p:cNvSpPr/>
          <p:nvPr/>
        </p:nvSpPr>
        <p:spPr>
          <a:xfrm>
            <a:off x="0" y="76500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ffff"/>
                </a:solidFill>
                <a:latin typeface="Calibri"/>
              </a:rPr>
              <a:t>В тест включены учебные материалы в соответствии с учебными программами для общеобразовательно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0" name="Заголовок 1"/>
          <p:cNvSpPr/>
          <p:nvPr/>
        </p:nvSpPr>
        <p:spPr>
          <a:xfrm>
            <a:off x="826920" y="333360"/>
            <a:ext cx="777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Материалы по подготовке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ый прямоугольник 2"/>
          <p:cNvSpPr/>
          <p:nvPr/>
        </p:nvSpPr>
        <p:spPr>
          <a:xfrm>
            <a:off x="108000" y="1157400"/>
            <a:ext cx="8928000" cy="439560"/>
          </a:xfrm>
          <a:prstGeom prst="roundRect">
            <a:avLst>
              <a:gd name="adj" fmla="val 0"/>
            </a:avLst>
          </a:prstGeom>
          <a:solidFill>
            <a:srgbClr val="ebf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сайте НЦТ размещены примерные варианты тестовых задан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6"/>
          <p:cNvSpPr/>
          <p:nvPr/>
        </p:nvSpPr>
        <p:spPr>
          <a:xfrm>
            <a:off x="108000" y="1635120"/>
            <a:ext cx="8928000" cy="665280"/>
          </a:xfrm>
          <a:prstGeom prst="roundRect">
            <a:avLst>
              <a:gd name="adj" fmla="val 0"/>
            </a:avLst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Национальным центром тестирования выпускаются Книжки-вопросники пробного тест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и Учебно-методические пособия ВО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2"/>
          <a:stretch/>
        </p:blipFill>
        <p:spPr>
          <a:xfrm>
            <a:off x="6531120" y="2328840"/>
            <a:ext cx="204300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4" name="Рисунок 4" descr=""/>
          <p:cNvPicPr/>
          <p:nvPr/>
        </p:nvPicPr>
        <p:blipFill>
          <a:blip r:embed="rId3"/>
          <a:stretch/>
        </p:blipFill>
        <p:spPr>
          <a:xfrm>
            <a:off x="3897360" y="2338560"/>
            <a:ext cx="212256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5" name="Рисунок 7" descr=""/>
          <p:cNvPicPr/>
          <p:nvPr/>
        </p:nvPicPr>
        <p:blipFill>
          <a:blip r:embed="rId4"/>
          <a:stretch/>
        </p:blipFill>
        <p:spPr>
          <a:xfrm>
            <a:off x="108000" y="2335320"/>
            <a:ext cx="331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6:09:31Z</dcterms:created>
  <dc:creator>PR</dc:creator>
  <dc:description/>
  <dc:language>en-US</dc:language>
  <cp:lastModifiedBy>Жумаханова Гульнур</cp:lastModifiedBy>
  <cp:lastPrinted>2017-02-27T09:36:03Z</cp:lastPrinted>
  <dcterms:modified xsi:type="dcterms:W3CDTF">2017-03-17T05:44:44Z</dcterms:modified>
  <cp:revision>639</cp:revision>
  <dc:subject/>
  <dc:title>Презентация PowerPoint</dc:title>
</cp:coreProperties>
</file>